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.wmf" ContentType="image/x-wmf"/>
  <Override PartName="/ppt/media/image26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9.jpeg" ContentType="image/jpeg"/>
  <Override PartName="/ppt/media/image5.png" ContentType="image/png"/>
  <Override PartName="/ppt/media/image13.wmf" ContentType="image/x-wmf"/>
  <Override PartName="/ppt/media/image28.wmf" ContentType="image/x-wmf"/>
  <Override PartName="/ppt/media/image30.png" ContentType="image/png"/>
  <Override PartName="/ppt/media/image10.gif" ContentType="image/gif"/>
  <Override PartName="/ppt/media/image14.png" ContentType="image/png"/>
  <Override PartName="/ppt/media/image11.gif" ContentType="image/gif"/>
  <Override PartName="/ppt/media/image2.jpeg" ContentType="image/jpeg"/>
  <Override PartName="/ppt/media/image15.png" ContentType="image/png"/>
  <Override PartName="/ppt/media/image16.png" ContentType="image/png"/>
  <Override PartName="/ppt/media/image17.jpeg" ContentType="image/jpeg"/>
  <Override PartName="/ppt/media/image18.png" ContentType="image/png"/>
  <Override PartName="/ppt/media/image29.png" ContentType="image/png"/>
  <Override PartName="/ppt/media/image21.jpeg" ContentType="image/jpeg"/>
  <Override PartName="/ppt/media/image20.jpeg" ContentType="image/jpeg"/>
  <Override PartName="/ppt/media/image22.wmf" ContentType="image/x-wmf"/>
  <Override PartName="/ppt/media/image23.png" ContentType="image/png"/>
  <Override PartName="/ppt/media/image24.png" ContentType="image/png"/>
  <Override PartName="/ppt/media/image19.jpeg" ContentType="image/jpeg"/>
  <Override PartName="/ppt/media/image25.png" ContentType="image/png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FBFE-C4A0-4283-B292-BFBC78746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02D6-4937-45F2-86F1-A82C3A36D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2FBF-8D09-4484-B4B1-30143EBD3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5D1E-4B64-4FC1-A30D-3CF16547A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F79A-8C64-4D00-AE51-F389BDAE5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73D1-884D-4FD9-B327-66B103A23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FBA4-DA55-4F14-9E20-77975932D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E5C8-8E3B-4F93-84CC-AB98AB75E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4388-594E-45DF-ACB7-079F0F66A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7F3C-A495-4E25-A4AF-311E34D19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5D71-6AEC-4839-B68C-DB2580006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C17D-DA88-432E-B6DC-39DC79ACC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5325-E074-4930-9482-641F34616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559E-F5D5-46F3-BE71-BEB4C5D30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B219-8AA7-42C0-B1C6-659B22999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5F62-2BBD-46E0-BB30-2FABDF72F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9063-BF86-4DB7-86DE-BECA6CC1D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BA15-08F0-495E-8DD6-F0A32CDCF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8E3E-9006-4446-A660-D30A407CF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5FEF-9E36-405A-B3F9-D7DF760DC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6933-AC19-4C0B-B3FB-A55D46799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6336-1C18-4E9C-B00D-E3255D6A5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016D-B3AE-4C7C-AB9F-AFD7A43CE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5F59-0FCE-4E96-B77C-32A807A91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60FD-704F-4849-A291-9E9611829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44A5-D353-454F-B096-F3BFE13C2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83BB-C4FC-4D25-BF71-C4E5A5925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128A-6ACF-4695-9227-45B637BF7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7C53-0CD3-49DD-A094-46312242D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654C-EAC8-4B8D-9EDB-8890E6065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0B2A-DBD6-4777-A519-24D295DF9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87D9-9D2B-450A-A8C0-C2B63F8D8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D762-EE55-4734-AD06-9BC5FD3D8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D7E2-D45F-47CE-B3BC-F826763A7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7ABE-4E54-435F-AB87-2D54D18B7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861A-1CE0-4D8C-A841-85A379F4A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7ABE-AB5A-4F1A-8BF4-8155D8F18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E2F6-841A-44CB-9959-55835BA92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F94E-15C7-4B45-B171-2DA42E286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F375-1D3D-43D9-8FA1-C10827746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647C-A2B2-43D7-ACD0-E03C94750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590-A8D9-4784-8591-28B0BF03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56E9-7CDF-4D80-AB23-4B97C646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0A1-9D9F-4508-A94D-3FF1EB76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29D-5C99-458F-8521-66D48306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A264-37BB-464C-B088-9CAA1899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8C54-19B2-4EE1-9D77-0FED73CE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19C9-7326-422F-87ED-53AF940A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B2E4-111E-4B60-B880-933ED72D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5F49-5851-4E7F-810D-123F6E8E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4650-1222-4035-84D2-3ED7B995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458B-EDAD-4F36-B841-89E5C3DD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66C-C975-4AE5-8EB5-C9770CAC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7578-FE23-4855-B5DD-A4CA129A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0DF1-DB95-46A3-A2FF-2099DEA3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1799-BD7E-4A68-9B92-0C525B0D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DC37-0CB0-4CEC-A866-6D3CE82B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F2C7-9DC7-4D85-8B9D-4625CC51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DD2-3311-40DA-8AFD-77458C09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17D-5F9B-44A6-A94E-FDC27883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36AB-5852-4A0F-A43F-6F341E3B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E66E-65BB-4942-AC51-67D43B80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089-B9BA-4782-9BEE-800165B3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09C2-F237-4CE4-99C0-44381B07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1AA-89A5-4FB7-994A-BCF6F2BB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9E56-06B8-4A2B-948E-1908A27026C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44D1-0328-4FE1-A06D-3BB05051318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444600" y="2717640"/>
            <a:ext cx="833580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cc"/>
                </a:solidFill>
                <a:latin typeface="Times New Roman"/>
              </a:rPr>
              <a:t>Vazão Ambiental no Bras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2400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00080" y="5722920"/>
            <a:ext cx="4856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Luciano Meneses Cardoso da Silva, D.E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Gerente de Outo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specialista em Recursos Hídr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AguaNoBrasilenoMundo"/>
          <p:cNvPicPr/>
          <p:nvPr/>
        </p:nvPicPr>
        <p:blipFill>
          <a:blip r:embed="rId1"/>
          <a:srcRect l="1091" t="987" r="77467" b="92287"/>
          <a:stretch/>
        </p:blipFill>
        <p:spPr>
          <a:xfrm>
            <a:off x="34920" y="0"/>
            <a:ext cx="5724360" cy="2492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5734800" y="1052640"/>
            <a:ext cx="32317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f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VAZÃO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2717640" y="3860640"/>
            <a:ext cx="6223320" cy="131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Inici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UCN -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International Union for Conservation of 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omo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cretaria de Recursos Hídricos e Ambiente Urbano/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7876800" y="184464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24/11/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615240" y="2727360"/>
            <a:ext cx="82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4. Consensos sobre vazões ambient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rcRect l="21746" t="15750" r="18801" b="13787"/>
          <a:stretch/>
        </p:blipFill>
        <p:spPr>
          <a:xfrm>
            <a:off x="0" y="1009800"/>
            <a:ext cx="9144000" cy="537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Text Box 3"/>
          <p:cNvSpPr/>
          <p:nvPr/>
        </p:nvSpPr>
        <p:spPr>
          <a:xfrm>
            <a:off x="3939120" y="6451560"/>
            <a:ext cx="517788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Fonte: Relatório FEMA-MT, 2004. Walter Collischonn e Sidnei Ag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50920" y="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4. Consensos sobre vazões ambien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ntidade, qualidade e sazonalidade – há várias metodolog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4560" y="44280"/>
            <a:ext cx="90075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4. Consensos sobre vazões ambien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a prática, critérios de outorga têm definido as “vazões ecológic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ão há base científica (ambiental) nos critérios de outo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seiam-se em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Vazões de Refer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ão estatísticas de vazões observadas (80%Q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90%,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70%Q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95%,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0%Q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7,10,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rcRect l="23113" t="4883" r="23652" b="3037"/>
          <a:stretch/>
        </p:blipFill>
        <p:spPr>
          <a:xfrm>
            <a:off x="395280" y="0"/>
            <a:ext cx="820908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165240" y="2587680"/>
            <a:ext cx="8889840" cy="1557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creto n.º 37.033/96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termina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rt. 5º. Ressalvada a competência da União, a FEPAM definirá as quantidades mínimas de água necessárias para a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manutenção da vida nos ecossistemas aquáticos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, para cada bacia hidrográfic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2544480" y="1370160"/>
            <a:ext cx="38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Rio Grande do Su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4560" y="44280"/>
            <a:ext cx="90075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4. Consensos sobre vazões ambien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95280" y="1125360"/>
            <a:ext cx="8352000" cy="288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Inciso XXXVI, do art. 2º, da Resolução 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CONAMA n.º 357/200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Definição de Vazão de Referênci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0" lang="pt-BR" sz="2200" spc="-1" strike="noStrike">
                <a:solidFill>
                  <a:srgbClr val="0000ff"/>
                </a:solidFill>
                <a:latin typeface="Times New Roman"/>
                <a:ea typeface="Arial"/>
              </a:rPr>
              <a:t>V</a:t>
            </a:r>
            <a:r>
              <a:rPr b="0" i="1" lang="pt-BR" sz="2200" spc="-1" strike="noStrike">
                <a:solidFill>
                  <a:srgbClr val="0000ff"/>
                </a:solidFill>
                <a:latin typeface="Times New Roman"/>
                <a:ea typeface="Arial"/>
              </a:rPr>
              <a:t>azão do corpo hídrico utilizada como </a:t>
            </a:r>
            <a:r>
              <a:rPr b="1" i="1" lang="pt-BR" sz="2200" spc="-1" strike="noStrike" u="sng">
                <a:solidFill>
                  <a:srgbClr val="0000ff"/>
                </a:solidFill>
                <a:uFillTx/>
                <a:latin typeface="Times New Roman"/>
                <a:ea typeface="Arial"/>
              </a:rPr>
              <a:t>base para o processo de gestão</a:t>
            </a:r>
            <a:r>
              <a:rPr b="0" i="1" lang="pt-BR" sz="2200" spc="-1" strike="noStrike">
                <a:solidFill>
                  <a:srgbClr val="0000ff"/>
                </a:solidFill>
                <a:latin typeface="Times New Roman"/>
                <a:ea typeface="Arial"/>
              </a:rPr>
              <a:t>, tendo em vista o uso múltiplo das águas e a necessária </a:t>
            </a:r>
            <a:r>
              <a:rPr b="1" i="1" lang="pt-BR" sz="2200" spc="-1" strike="noStrike" u="sng">
                <a:solidFill>
                  <a:srgbClr val="0000ff"/>
                </a:solidFill>
                <a:uFillTx/>
                <a:latin typeface="Times New Roman"/>
                <a:ea typeface="Arial"/>
              </a:rPr>
              <a:t>articulação</a:t>
            </a:r>
            <a:r>
              <a:rPr b="0" i="1" lang="pt-BR" sz="2200" spc="-1" strike="noStrike">
                <a:solidFill>
                  <a:srgbClr val="0000ff"/>
                </a:solidFill>
                <a:latin typeface="Times New Roman"/>
                <a:ea typeface="Arial"/>
              </a:rPr>
              <a:t> das instâncias do Sistema Nacional de Meio Ambiente - SISNAMA e do Sistema Nacional de Gerenciamento de Recursos Hídricos – SINGREH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84600" y="574560"/>
            <a:ext cx="8910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imes New Roman"/>
                <a:ea typeface="Arial"/>
              </a:rPr>
              <a:t>Conceito de 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Arial"/>
              </a:rPr>
              <a:t>Vazão de Referência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  <a:ea typeface="Arial"/>
              </a:rPr>
              <a:t> dado pela Resolução 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Arial"/>
              </a:rPr>
              <a:t>CONAMA n.º 357/20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447840" y="5056200"/>
            <a:ext cx="8362800" cy="1390680"/>
            <a:chOff x="447840" y="5056200"/>
            <a:chExt cx="8362800" cy="1390680"/>
          </a:xfrm>
        </p:grpSpPr>
        <p:sp>
          <p:nvSpPr>
            <p:cNvPr id="136" name="Text Box 6"/>
            <p:cNvSpPr/>
            <p:nvPr/>
          </p:nvSpPr>
          <p:spPr>
            <a:xfrm>
              <a:off x="485640" y="5056200"/>
              <a:ext cx="8325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5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nceito técnico de </a:t>
              </a:r>
              <a:r>
                <a:rPr b="1" lang="pt-BR" sz="25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azão de Referência,</a:t>
              </a:r>
              <a:r>
                <a:rPr b="0" lang="pt-BR" sz="25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para fins de outorga: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"/>
            <p:cNvSpPr/>
            <p:nvPr/>
          </p:nvSpPr>
          <p:spPr>
            <a:xfrm>
              <a:off x="447840" y="5621400"/>
              <a:ext cx="8084880" cy="8254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azão do corpo hídrico que representa uma condição de alta garantia (quantitativ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8"/>
          <p:cNvGrpSpPr/>
          <p:nvPr/>
        </p:nvGrpSpPr>
        <p:grpSpPr>
          <a:xfrm>
            <a:off x="971640" y="2637000"/>
            <a:ext cx="5624280" cy="1919880"/>
            <a:chOff x="971640" y="2637000"/>
            <a:chExt cx="5624280" cy="1919880"/>
          </a:xfrm>
        </p:grpSpPr>
        <p:sp>
          <p:nvSpPr>
            <p:cNvPr id="139" name="Line 9"/>
            <p:cNvSpPr/>
            <p:nvPr/>
          </p:nvSpPr>
          <p:spPr>
            <a:xfrm>
              <a:off x="971640" y="2637000"/>
              <a:ext cx="180000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10"/>
            <p:cNvSpPr/>
            <p:nvPr/>
          </p:nvSpPr>
          <p:spPr>
            <a:xfrm>
              <a:off x="2821680" y="4097160"/>
              <a:ext cx="377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estão da qualidade da água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4. Consensos sobre vazões </a:t>
            </a: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ambient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Resolução CONAMA n. 357/05 adota a vazão de referência para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aferi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o enquadramento quali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10 “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Os valores máximos estabelecidos para os parâmetros relacionados em cada uma das classes de enquadramento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verão ser obedecidos nas condições de vazão de referênci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ritérios de outorg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adotam a vazão de referência para garantir o atendimento aos usos antróp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Times New Roman"/>
              </a:rPr>
              <a:t>Falta a definiçã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a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antidade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e água – dentro da classe de enquadramento – que deverão permanecer no rio a título de “vazão ambientai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rcRect l="8527" t="18993" r="10628" b="5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1897200" y="706320"/>
            <a:ext cx="719892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Fonte: Apresentação do Prof. Dr. Walter Collischonn do IPH/UFRGS (CTAP/CNRH, julho 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rcRect l="21776" t="28909" r="21045" b="16217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183400" y="3573360"/>
            <a:ext cx="278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aixa de vari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ara uso pela outorga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peração de reservató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897200" y="6473880"/>
            <a:ext cx="719892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Fonte: Apresentação do Prof. Dr. Walter Collischonn do IPH/UFRGS (CTAP/CNRH, julho 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/>
          <a:srcRect l="35575" t="56871" r="13493" b="5260"/>
          <a:stretch/>
        </p:blipFill>
        <p:spPr>
          <a:xfrm>
            <a:off x="5435640" y="1916280"/>
            <a:ext cx="3457440" cy="216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149" name="Group 6"/>
          <p:cNvGrpSpPr/>
          <p:nvPr/>
        </p:nvGrpSpPr>
        <p:grpSpPr>
          <a:xfrm>
            <a:off x="3562200" y="1916280"/>
            <a:ext cx="4034160" cy="2617560"/>
            <a:chOff x="3562200" y="1916280"/>
            <a:chExt cx="4034160" cy="2617560"/>
          </a:xfrm>
        </p:grpSpPr>
        <p:sp>
          <p:nvSpPr>
            <p:cNvPr id="150" name="AutoShape 7"/>
            <p:cNvSpPr/>
            <p:nvPr/>
          </p:nvSpPr>
          <p:spPr>
            <a:xfrm>
              <a:off x="7392960" y="2060640"/>
              <a:ext cx="203400" cy="863640"/>
            </a:xfrm>
            <a:custGeom>
              <a:avLst/>
              <a:gdLst>
                <a:gd name="textAreaLeft" fmla="*/ 129960 w 203400"/>
                <a:gd name="textAreaRight" fmla="*/ 203760 w 20340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AutoShape 8"/>
            <p:cNvSpPr/>
            <p:nvPr/>
          </p:nvSpPr>
          <p:spPr>
            <a:xfrm>
              <a:off x="3562200" y="1916280"/>
              <a:ext cx="217800" cy="2617560"/>
            </a:xfrm>
            <a:custGeom>
              <a:avLst/>
              <a:gdLst>
                <a:gd name="textAreaLeft" fmla="*/ 0 w 217800"/>
                <a:gd name="textAreaRight" fmla="*/ 78480 w 217800"/>
                <a:gd name="textAreaTop" fmla="*/ 68040 h 2617560"/>
                <a:gd name="textAreaBottom" fmla="*/ 2549520 h 26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 flipH="1">
              <a:off x="3924360" y="2708280"/>
              <a:ext cx="345600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10"/>
          <p:cNvGrpSpPr/>
          <p:nvPr/>
        </p:nvGrpSpPr>
        <p:grpSpPr>
          <a:xfrm>
            <a:off x="2050920" y="3573360"/>
            <a:ext cx="3757680" cy="1440000"/>
            <a:chOff x="2050920" y="3573360"/>
            <a:chExt cx="3757680" cy="1440000"/>
          </a:xfrm>
        </p:grpSpPr>
        <p:sp>
          <p:nvSpPr>
            <p:cNvPr id="154" name="Line 11"/>
            <p:cNvSpPr/>
            <p:nvPr/>
          </p:nvSpPr>
          <p:spPr>
            <a:xfrm flipH="1">
              <a:off x="2410920" y="3645000"/>
              <a:ext cx="324036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12"/>
            <p:cNvSpPr/>
            <p:nvPr/>
          </p:nvSpPr>
          <p:spPr>
            <a:xfrm>
              <a:off x="2050920" y="4221000"/>
              <a:ext cx="217440" cy="792360"/>
            </a:xfrm>
            <a:custGeom>
              <a:avLst/>
              <a:gdLst>
                <a:gd name="textAreaLeft" fmla="*/ 0 w 217440"/>
                <a:gd name="textAreaRight" fmla="*/ 78480 w 21744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AutoShape 13"/>
            <p:cNvSpPr/>
            <p:nvPr/>
          </p:nvSpPr>
          <p:spPr>
            <a:xfrm>
              <a:off x="5651640" y="3573360"/>
              <a:ext cx="156960" cy="104760"/>
            </a:xfrm>
            <a:custGeom>
              <a:avLst/>
              <a:gdLst>
                <a:gd name="textAreaLeft" fmla="*/ 100440 w 156960"/>
                <a:gd name="textAreaRight" fmla="*/ 157320 w 156960"/>
                <a:gd name="textAreaTop" fmla="*/ 2520 h 104760"/>
                <a:gd name="textAreaBottom" fmla="*/ 102240 h 1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14"/>
          <p:cNvGrpSpPr/>
          <p:nvPr/>
        </p:nvGrpSpPr>
        <p:grpSpPr>
          <a:xfrm>
            <a:off x="6659640" y="3497400"/>
            <a:ext cx="2190600" cy="2163600"/>
            <a:chOff x="6659640" y="3497400"/>
            <a:chExt cx="2190600" cy="2163600"/>
          </a:xfrm>
        </p:grpSpPr>
        <p:sp>
          <p:nvSpPr>
            <p:cNvPr id="158" name="AutoShape 15"/>
            <p:cNvSpPr/>
            <p:nvPr/>
          </p:nvSpPr>
          <p:spPr>
            <a:xfrm>
              <a:off x="8693280" y="3497400"/>
              <a:ext cx="156960" cy="104760"/>
            </a:xfrm>
            <a:custGeom>
              <a:avLst/>
              <a:gdLst>
                <a:gd name="textAreaLeft" fmla="*/ 100440 w 156960"/>
                <a:gd name="textAreaRight" fmla="*/ 157320 w 156960"/>
                <a:gd name="textAreaTop" fmla="*/ 2520 h 104760"/>
                <a:gd name="textAreaBottom" fmla="*/ 102240 h 1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AutoShape 16"/>
            <p:cNvSpPr/>
            <p:nvPr/>
          </p:nvSpPr>
          <p:spPr>
            <a:xfrm>
              <a:off x="6659640" y="5013360"/>
              <a:ext cx="217440" cy="647640"/>
            </a:xfrm>
            <a:custGeom>
              <a:avLst/>
              <a:gdLst>
                <a:gd name="textAreaLeft" fmla="*/ 0 w 217440"/>
                <a:gd name="textAreaRight" fmla="*/ 78480 w 217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7"/>
            <p:cNvSpPr/>
            <p:nvPr/>
          </p:nvSpPr>
          <p:spPr>
            <a:xfrm flipH="1">
              <a:off x="6948000" y="3551400"/>
              <a:ext cx="1708200" cy="17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4. Consensos sobre vazões </a:t>
            </a: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ambient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critérios de outorga devem,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multaneamente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ar boa garantia,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 termos de quantidad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aos usuários antrópicos dos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tender ao enquadramento, notadamente nas outorgas para diluição de efluentes (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alidad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ão negligenciar as vazões mínimas e máximas definidas como vazões ambientais (quantid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sumos outorgados e operação de reservatórios interferem nas vazões ambientais mínimas (estiag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peração de reservatórios interferem nas vazões ambientais mínimas (cheias) e máximas (estiag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395280" y="4292640"/>
            <a:ext cx="8632800" cy="2020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Água ou recurso hídric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stituição Federal de 1988: </a:t>
            </a:r>
            <a:r>
              <a:rPr b="1" lang="pt-BR" sz="2800" spc="-1" strike="noStrike">
                <a:solidFill>
                  <a:srgbClr val="0000cc"/>
                </a:solidFill>
                <a:latin typeface="Times New Roman"/>
              </a:rPr>
              <a:t>1ª vez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“recurso hídrico”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5 vez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das associadas a “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proveitament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” ou “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xploraçã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” ou “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gerenciament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eria o legislador estabelecer regras específicas apenas para o uso antrópico da água? Água utilizada para finalidade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conômic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“recurso hídrico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u o uso dessas expressões (água e recurso hídrico) vem send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discriminad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id Tomanik Pompeu (2004) “</a:t>
            </a:r>
            <a:r>
              <a:rPr b="1" i="1" lang="pt-BR" sz="2400" spc="-1" strike="noStrike">
                <a:solidFill>
                  <a:srgbClr val="0000cc"/>
                </a:solidFill>
                <a:latin typeface="Times New Roman"/>
              </a:rPr>
              <a:t>água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é um elemento natural </a:t>
            </a:r>
            <a:r>
              <a:rPr b="1" i="1" lang="pt-BR" sz="2400" spc="-1" strike="noStrike">
                <a:solidFill>
                  <a:srgbClr val="0000cc"/>
                </a:solidFill>
                <a:latin typeface="Times New Roman"/>
              </a:rPr>
              <a:t>descompromissado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de qualquer uso ou utilização, sendo sempre apresentado como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gênero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, já a expressão </a:t>
            </a:r>
            <a:r>
              <a:rPr b="1" i="1" lang="pt-BR" sz="2400" spc="-1" strike="noStrike">
                <a:solidFill>
                  <a:srgbClr val="0000cc"/>
                </a:solidFill>
                <a:latin typeface="Times New Roman"/>
              </a:rPr>
              <a:t>recursos hídricos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é a água como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bem econômico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possível de ser utilizado com tal fim, caracterizado como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spéci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09440" y="6451560"/>
            <a:ext cx="89488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OMPEU, C.T. (2004) 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Direito de Águas no Brasil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. CDROM – Curso Direito de Águas no Brasil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TARH/ENC/FT/Un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998880" y="620640"/>
            <a:ext cx="1944720" cy="554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998880" y="4724280"/>
            <a:ext cx="1944720" cy="14414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z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máxima ou míni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998880" y="3068640"/>
            <a:ext cx="1944720" cy="165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zão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sum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sos antróp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998880" y="620640"/>
            <a:ext cx="1944720" cy="24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z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xce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3422520" y="4724280"/>
            <a:ext cx="360360" cy="1441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8680" y="4870440"/>
            <a:ext cx="3546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zão para dilu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 eflu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(mantendo o enquadramen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+ Navegação, geração hidrelét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e outros usos não consunti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6651720" y="549360"/>
            <a:ext cx="360360" cy="5543640"/>
          </a:xfrm>
          <a:custGeom>
            <a:avLst/>
            <a:gdLst>
              <a:gd name="textAreaLeft" fmla="*/ 0 w 360360"/>
              <a:gd name="textAreaRight" fmla="*/ 129960 w 360360"/>
              <a:gd name="textAreaTop" fmla="*/ 144360 h 5543640"/>
              <a:gd name="textAreaBottom" fmla="*/ 5399280 h 554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351920" y="30178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zão do 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10"/>
          <p:cNvSpPr/>
          <p:nvPr/>
        </p:nvSpPr>
        <p:spPr>
          <a:xfrm rot="16200000">
            <a:off x="5907960" y="1016280"/>
            <a:ext cx="863640" cy="360360"/>
          </a:xfrm>
          <a:custGeom>
            <a:avLst/>
            <a:gdLst>
              <a:gd name="textAreaLeft" fmla="*/ 135000 w 863640"/>
              <a:gd name="textAreaRight" fmla="*/ 756000 w 863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1"/>
          <p:cNvSpPr/>
          <p:nvPr/>
        </p:nvSpPr>
        <p:spPr>
          <a:xfrm rot="5400000">
            <a:off x="5880600" y="5539680"/>
            <a:ext cx="863640" cy="360360"/>
          </a:xfrm>
          <a:custGeom>
            <a:avLst/>
            <a:gdLst>
              <a:gd name="textAreaLeft" fmla="*/ 135000 w 863640"/>
              <a:gd name="textAreaRight" fmla="*/ 756000 w 863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 rot="16200000">
            <a:off x="5511240" y="43606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aior garant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 rot="16200000">
            <a:off x="5523120" y="23306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enor garant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4" descr=""/>
          <p:cNvPicPr/>
          <p:nvPr/>
        </p:nvPicPr>
        <p:blipFill>
          <a:blip r:embed="rId1"/>
          <a:srcRect l="15527" t="23961" r="11669" b="15787"/>
          <a:stretch/>
        </p:blipFill>
        <p:spPr>
          <a:xfrm>
            <a:off x="250920" y="404640"/>
            <a:ext cx="3241440" cy="2432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Quest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 quem é a atribuição legal para definir as vazões ambientais? Da área de recursos hídricos ou da área ambiental? Ou amb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berá à área de RH, por meio da outorga, definir, em última instância, esses valores, ainda que baseados em métodos científicos para determinação de vazões ambienta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 caberá à área de RH o estabelecimento de vazões mínimas suficiente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apena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para atendimento dos usos antrópicos (irrigação, saneamento, navegação, indústria, diluição de efluentes,...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Qual dessas afirmações é a mais corre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área de RH não possui qualquer responsabilidades sobre o assu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área de RH possui exclusiva responsabilidade sobre o assu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área de RH possui responsabilidade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artilhad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com a área ambiental sobre o assu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8580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Quest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cc"/>
                </a:solidFill>
                <a:latin typeface="Times New Roman"/>
              </a:rPr>
              <a:t>Como implementar as vazões ambientais no Brasil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756360" y="692280"/>
            <a:ext cx="70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Times New Roman"/>
              </a:rPr>
              <a:t>Consensos sobre vazões ambient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08000" y="4428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pos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108720" y="1700280"/>
            <a:ext cx="7905240" cy="3117960"/>
            <a:chOff x="108720" y="1700280"/>
            <a:chExt cx="7905240" cy="3117960"/>
          </a:xfrm>
        </p:grpSpPr>
        <p:pic>
          <p:nvPicPr>
            <p:cNvPr id="184" name="Picture 5" descr="MPj04005050000[1]"/>
            <p:cNvPicPr/>
            <p:nvPr/>
          </p:nvPicPr>
          <p:blipFill>
            <a:blip r:embed="rId1"/>
            <a:stretch/>
          </p:blipFill>
          <p:spPr>
            <a:xfrm>
              <a:off x="1495440" y="1700280"/>
              <a:ext cx="3902040" cy="31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6"/>
            <p:cNvSpPr/>
            <p:nvPr/>
          </p:nvSpPr>
          <p:spPr>
            <a:xfrm>
              <a:off x="108720" y="284652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cc"/>
                  </a:solidFill>
                  <a:latin typeface="Times New Roman"/>
                </a:rPr>
                <a:t>US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7"/>
            <p:cNvSpPr/>
            <p:nvPr/>
          </p:nvSpPr>
          <p:spPr>
            <a:xfrm>
              <a:off x="5526000" y="2853000"/>
              <a:ext cx="248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8000"/>
                  </a:solidFill>
                  <a:latin typeface="Times New Roman"/>
                </a:rPr>
                <a:t>PROTEÇÃ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Text Box 8"/>
          <p:cNvSpPr/>
          <p:nvPr/>
        </p:nvSpPr>
        <p:spPr>
          <a:xfrm>
            <a:off x="4151880" y="5081760"/>
            <a:ext cx="438984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Onde? Quando? Com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828360" y="5945040"/>
            <a:ext cx="512604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3300"/>
                </a:solidFill>
                <a:latin typeface="Times New Roman"/>
              </a:rPr>
              <a:t>Planos de Recursos Híd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4560" y="404640"/>
            <a:ext cx="90075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4. Consensos sobre vazões ambien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ugest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Área Ambiental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articipa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os Planos de Recursos Hídricos (Nacional, Estadual e por bacia) - auxílio na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efiniçã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as “vazões ambientais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laboração de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nquadramento dos corpos de água em ter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alitativos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(Resolução Conama n. 357/05);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0000"/>
                </a:solidFill>
                <a:uFillTx/>
                <a:latin typeface="Times New Roman"/>
              </a:rPr>
              <a:t>Quantitativos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 (não existe regulamentaçã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pt-BR" sz="3200" spc="-1" strike="noStrike">
                <a:solidFill>
                  <a:srgbClr val="0000cc"/>
                </a:solidFill>
                <a:latin typeface="Times New Roman"/>
              </a:rPr>
              <a:t>Os Planos de RH deveriam fazer enquadramento quantitativo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669600" y="5946840"/>
            <a:ext cx="781596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nquadramento quantitativo = Vazões ambien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826920" y="1438200"/>
            <a:ext cx="7058160" cy="5233320"/>
            <a:chOff x="826920" y="1438200"/>
            <a:chExt cx="7058160" cy="5233320"/>
          </a:xfrm>
        </p:grpSpPr>
        <p:sp>
          <p:nvSpPr>
            <p:cNvPr id="192" name="Line 3"/>
            <p:cNvSpPr/>
            <p:nvPr/>
          </p:nvSpPr>
          <p:spPr>
            <a:xfrm>
              <a:off x="1693800" y="6039000"/>
              <a:ext cx="619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4"/>
            <p:cNvSpPr/>
            <p:nvPr/>
          </p:nvSpPr>
          <p:spPr>
            <a:xfrm flipV="1">
              <a:off x="1692360" y="1438200"/>
              <a:ext cx="0" cy="46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5"/>
            <p:cNvSpPr/>
            <p:nvPr/>
          </p:nvSpPr>
          <p:spPr>
            <a:xfrm>
              <a:off x="3273480" y="6211800"/>
              <a:ext cx="36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enefícios econômicos ($$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6"/>
            <p:cNvSpPr/>
            <p:nvPr/>
          </p:nvSpPr>
          <p:spPr>
            <a:xfrm rot="16200000">
              <a:off x="-411840" y="3525480"/>
              <a:ext cx="293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eservação ambi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Text Box 7"/>
          <p:cNvSpPr/>
          <p:nvPr/>
        </p:nvSpPr>
        <p:spPr>
          <a:xfrm>
            <a:off x="248400" y="166680"/>
            <a:ext cx="88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urva de compromisso simplória nos Planos de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rc 8"/>
          <p:cNvSpPr/>
          <p:nvPr/>
        </p:nvSpPr>
        <p:spPr>
          <a:xfrm>
            <a:off x="1692360" y="2158920"/>
            <a:ext cx="5184720" cy="3888000"/>
          </a:xfrm>
          <a:custGeom>
            <a:avLst/>
            <a:gdLst>
              <a:gd name="textAreaLeft" fmla="*/ 0 w 5184720"/>
              <a:gd name="textAreaRight" fmla="*/ 5185080 w 5184720"/>
              <a:gd name="textAreaTop" fmla="*/ 0 h 3888000"/>
              <a:gd name="textAreaBottom" fmla="*/ 3888360 h 388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9"/>
          <p:cNvGrpSpPr/>
          <p:nvPr/>
        </p:nvGrpSpPr>
        <p:grpSpPr>
          <a:xfrm>
            <a:off x="5252400" y="1341360"/>
            <a:ext cx="3049920" cy="1352520"/>
            <a:chOff x="5252400" y="1341360"/>
            <a:chExt cx="3049920" cy="1352520"/>
          </a:xfrm>
        </p:grpSpPr>
        <p:sp>
          <p:nvSpPr>
            <p:cNvPr id="199" name="Oval 10"/>
            <p:cNvSpPr/>
            <p:nvPr/>
          </p:nvSpPr>
          <p:spPr>
            <a:xfrm>
              <a:off x="5535360" y="1341360"/>
              <a:ext cx="2766960" cy="1035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AutoShape 11"/>
            <p:cNvSpPr/>
            <p:nvPr/>
          </p:nvSpPr>
          <p:spPr>
            <a:xfrm rot="2004000">
              <a:off x="5277960" y="2147400"/>
              <a:ext cx="836640" cy="344520"/>
            </a:xfrm>
            <a:prstGeom prst="leftRightArrow">
              <a:avLst>
                <a:gd name="adj1" fmla="val 50000"/>
                <a:gd name="adj2" fmla="val 4834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12"/>
            <p:cNvSpPr/>
            <p:nvPr/>
          </p:nvSpPr>
          <p:spPr>
            <a:xfrm>
              <a:off x="5841360" y="1517400"/>
              <a:ext cx="2177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usca do equilíb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e Forç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13"/>
          <p:cNvGrpSpPr/>
          <p:nvPr/>
        </p:nvGrpSpPr>
        <p:grpSpPr>
          <a:xfrm>
            <a:off x="1604880" y="2076480"/>
            <a:ext cx="5329440" cy="4030560"/>
            <a:chOff x="1604880" y="2076480"/>
            <a:chExt cx="5329440" cy="4030560"/>
          </a:xfrm>
        </p:grpSpPr>
        <p:sp>
          <p:nvSpPr>
            <p:cNvPr id="203" name="Oval 14"/>
            <p:cNvSpPr/>
            <p:nvPr/>
          </p:nvSpPr>
          <p:spPr>
            <a:xfrm>
              <a:off x="6789600" y="5964120"/>
              <a:ext cx="1447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Oval 15"/>
            <p:cNvSpPr/>
            <p:nvPr/>
          </p:nvSpPr>
          <p:spPr>
            <a:xfrm>
              <a:off x="1604880" y="2076480"/>
              <a:ext cx="1447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16"/>
          <p:cNvGrpSpPr/>
          <p:nvPr/>
        </p:nvGrpSpPr>
        <p:grpSpPr>
          <a:xfrm>
            <a:off x="1692360" y="3933720"/>
            <a:ext cx="7261920" cy="2129040"/>
            <a:chOff x="1692360" y="3933720"/>
            <a:chExt cx="7261920" cy="2129040"/>
          </a:xfrm>
        </p:grpSpPr>
        <p:grpSp>
          <p:nvGrpSpPr>
            <p:cNvPr id="206" name="Group 17"/>
            <p:cNvGrpSpPr/>
            <p:nvPr/>
          </p:nvGrpSpPr>
          <p:grpSpPr>
            <a:xfrm>
              <a:off x="1692360" y="3933720"/>
              <a:ext cx="6548040" cy="2129040"/>
              <a:chOff x="1692360" y="3933720"/>
              <a:chExt cx="6548040" cy="2129040"/>
            </a:xfrm>
          </p:grpSpPr>
          <p:sp>
            <p:nvSpPr>
              <p:cNvPr id="207" name="Line 18"/>
              <p:cNvSpPr/>
              <p:nvPr/>
            </p:nvSpPr>
            <p:spPr>
              <a:xfrm>
                <a:off x="6659640" y="4910040"/>
                <a:ext cx="0" cy="11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19"/>
              <p:cNvSpPr/>
              <p:nvPr/>
            </p:nvSpPr>
            <p:spPr>
              <a:xfrm flipH="1">
                <a:off x="1692360" y="4910040"/>
                <a:ext cx="496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Oval 20"/>
              <p:cNvSpPr/>
              <p:nvPr/>
            </p:nvSpPr>
            <p:spPr>
              <a:xfrm>
                <a:off x="6578640" y="4782960"/>
                <a:ext cx="144360" cy="216000"/>
              </a:xfrm>
              <a:prstGeom prst="ellipse">
                <a:avLst/>
              </a:prstGeom>
              <a:solidFill>
                <a:srgbClr val="996633"/>
              </a:solidFill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Text Box 21"/>
              <p:cNvSpPr/>
              <p:nvPr/>
            </p:nvSpPr>
            <p:spPr>
              <a:xfrm>
                <a:off x="6905880" y="3933720"/>
                <a:ext cx="1334520" cy="825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+ $$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 Ambien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Text Box 22"/>
            <p:cNvSpPr/>
            <p:nvPr/>
          </p:nvSpPr>
          <p:spPr>
            <a:xfrm>
              <a:off x="7075800" y="4745160"/>
              <a:ext cx="187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no feito s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área ambien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Group 23"/>
          <p:cNvGrpSpPr/>
          <p:nvPr/>
        </p:nvGrpSpPr>
        <p:grpSpPr>
          <a:xfrm>
            <a:off x="1692360" y="549360"/>
            <a:ext cx="3241080" cy="5497560"/>
            <a:chOff x="1692360" y="549360"/>
            <a:chExt cx="3241080" cy="5497560"/>
          </a:xfrm>
        </p:grpSpPr>
        <p:grpSp>
          <p:nvGrpSpPr>
            <p:cNvPr id="213" name="Group 24"/>
            <p:cNvGrpSpPr/>
            <p:nvPr/>
          </p:nvGrpSpPr>
          <p:grpSpPr>
            <a:xfrm>
              <a:off x="1692360" y="1122480"/>
              <a:ext cx="2921760" cy="4924440"/>
              <a:chOff x="1692360" y="1122480"/>
              <a:chExt cx="2921760" cy="4924440"/>
            </a:xfrm>
          </p:grpSpPr>
          <p:sp>
            <p:nvSpPr>
              <p:cNvPr id="214" name="Line 25"/>
              <p:cNvSpPr/>
              <p:nvPr/>
            </p:nvSpPr>
            <p:spPr>
              <a:xfrm>
                <a:off x="2484360" y="2230560"/>
                <a:ext cx="0" cy="381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26"/>
              <p:cNvSpPr/>
              <p:nvPr/>
            </p:nvSpPr>
            <p:spPr>
              <a:xfrm flipH="1">
                <a:off x="1692360" y="2230560"/>
                <a:ext cx="79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Oval 27"/>
              <p:cNvSpPr/>
              <p:nvPr/>
            </p:nvSpPr>
            <p:spPr>
              <a:xfrm>
                <a:off x="2411280" y="2101680"/>
                <a:ext cx="144720" cy="216000"/>
              </a:xfrm>
              <a:prstGeom prst="ellipse">
                <a:avLst/>
              </a:prstGeom>
              <a:solidFill>
                <a:srgbClr val="996633"/>
              </a:solidFill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Text Box 28"/>
              <p:cNvSpPr/>
              <p:nvPr/>
            </p:nvSpPr>
            <p:spPr>
              <a:xfrm>
                <a:off x="2662560" y="1122480"/>
                <a:ext cx="1951560" cy="825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+ Ambient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 $$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Text Box 29"/>
            <p:cNvSpPr/>
            <p:nvPr/>
          </p:nvSpPr>
          <p:spPr>
            <a:xfrm>
              <a:off x="2559600" y="549360"/>
              <a:ext cx="237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no feito s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 a área ambien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9" name="Picture 30" descr="478-balansv-vit.gif (29423 bytes)"/>
          <p:cNvPicPr/>
          <p:nvPr/>
        </p:nvPicPr>
        <p:blipFill>
          <a:blip r:embed="rId1"/>
          <a:stretch/>
        </p:blipFill>
        <p:spPr>
          <a:xfrm>
            <a:off x="3059280" y="2997360"/>
            <a:ext cx="165708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7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1693800" y="6039000"/>
            <a:ext cx="619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"/>
          <p:cNvSpPr/>
          <p:nvPr/>
        </p:nvSpPr>
        <p:spPr>
          <a:xfrm flipV="1">
            <a:off x="1692360" y="143820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273480" y="621180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enefícios econômicos ($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 rot="16200000">
            <a:off x="-411840" y="3525480"/>
            <a:ext cx="29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eservação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rc 6"/>
          <p:cNvSpPr/>
          <p:nvPr/>
        </p:nvSpPr>
        <p:spPr>
          <a:xfrm>
            <a:off x="1692360" y="2158920"/>
            <a:ext cx="5184720" cy="3888000"/>
          </a:xfrm>
          <a:custGeom>
            <a:avLst/>
            <a:gdLst>
              <a:gd name="textAreaLeft" fmla="*/ 0 w 5184720"/>
              <a:gd name="textAreaRight" fmla="*/ 5185080 w 5184720"/>
              <a:gd name="textAreaTop" fmla="*/ 0 h 3888000"/>
              <a:gd name="textAreaBottom" fmla="*/ 3888360 h 388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rc 7"/>
          <p:cNvSpPr/>
          <p:nvPr/>
        </p:nvSpPr>
        <p:spPr>
          <a:xfrm>
            <a:off x="1692360" y="2158920"/>
            <a:ext cx="5205240" cy="2638440"/>
          </a:xfrm>
          <a:custGeom>
            <a:avLst/>
            <a:gdLst>
              <a:gd name="textAreaLeft" fmla="*/ 0 w 5205240"/>
              <a:gd name="textAreaRight" fmla="*/ 5205600 w 5205240"/>
              <a:gd name="textAreaTop" fmla="*/ 0 h 2638440"/>
              <a:gd name="textAreaBottom" fmla="*/ 2638800 h 2638440"/>
            </a:gdLst>
            <a:ahLst/>
            <a:rect l="textAreaLeft" t="textAreaTop" r="textAreaRight" b="textAreaBottom"/>
            <a:pathLst>
              <a:path fill="none" w="18122" h="21600">
                <a:moveTo>
                  <a:pt x="-1" y="0"/>
                </a:moveTo>
                <a:cubicBezTo>
                  <a:pt x="7318" y="0"/>
                  <a:pt x="14139" y="3705"/>
                  <a:pt x="18121" y="9846"/>
                </a:cubicBezTo>
              </a:path>
              <a:path stroke="0" w="18122" h="21600">
                <a:moveTo>
                  <a:pt x="-1" y="0"/>
                </a:moveTo>
                <a:cubicBezTo>
                  <a:pt x="7318" y="0"/>
                  <a:pt x="14139" y="3705"/>
                  <a:pt x="18121" y="984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5944320" y="1268280"/>
            <a:ext cx="23158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+ Ciência e tecnolo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6659640" y="3212640"/>
            <a:ext cx="0" cy="2808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 flipH="1">
            <a:off x="1692360" y="3213000"/>
            <a:ext cx="4967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 flipH="1">
            <a:off x="1677960" y="4941720"/>
            <a:ext cx="4967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1692360" y="2133720"/>
            <a:ext cx="5327640" cy="0"/>
          </a:xfrm>
          <a:prstGeom prst="line">
            <a:avLst/>
          </a:prstGeom>
          <a:ln w="3816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975240" y="328680"/>
            <a:ext cx="74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Mudança do padrão da Curva de Compromi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14"/>
          <p:cNvSpPr/>
          <p:nvPr/>
        </p:nvSpPr>
        <p:spPr>
          <a:xfrm rot="16200000">
            <a:off x="6703920" y="3960360"/>
            <a:ext cx="560520" cy="360360"/>
          </a:xfrm>
          <a:custGeom>
            <a:avLst/>
            <a:gdLst>
              <a:gd name="textAreaLeft" fmla="*/ 87480 w 560520"/>
              <a:gd name="textAreaRight" fmla="*/ 490680 w 5605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15"/>
          <p:cNvGrpSpPr/>
          <p:nvPr/>
        </p:nvGrpSpPr>
        <p:grpSpPr>
          <a:xfrm>
            <a:off x="1604880" y="2076480"/>
            <a:ext cx="5329440" cy="4030560"/>
            <a:chOff x="1604880" y="2076480"/>
            <a:chExt cx="5329440" cy="4030560"/>
          </a:xfrm>
        </p:grpSpPr>
        <p:sp>
          <p:nvSpPr>
            <p:cNvPr id="234" name="Oval 16"/>
            <p:cNvSpPr/>
            <p:nvPr/>
          </p:nvSpPr>
          <p:spPr>
            <a:xfrm>
              <a:off x="6789600" y="5964120"/>
              <a:ext cx="1447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Oval 17"/>
            <p:cNvSpPr/>
            <p:nvPr/>
          </p:nvSpPr>
          <p:spPr>
            <a:xfrm>
              <a:off x="1604880" y="2076480"/>
              <a:ext cx="1447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18"/>
          <p:cNvGrpSpPr/>
          <p:nvPr/>
        </p:nvGrpSpPr>
        <p:grpSpPr>
          <a:xfrm>
            <a:off x="6716880" y="2013120"/>
            <a:ext cx="2473200" cy="1223280"/>
            <a:chOff x="6716880" y="2013120"/>
            <a:chExt cx="2473200" cy="1223280"/>
          </a:xfrm>
        </p:grpSpPr>
        <p:sp>
          <p:nvSpPr>
            <p:cNvPr id="237" name="Oval 19"/>
            <p:cNvSpPr/>
            <p:nvPr/>
          </p:nvSpPr>
          <p:spPr>
            <a:xfrm>
              <a:off x="6716880" y="2013120"/>
              <a:ext cx="215640" cy="21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0"/>
            <p:cNvSpPr/>
            <p:nvPr/>
          </p:nvSpPr>
          <p:spPr>
            <a:xfrm>
              <a:off x="7195680" y="2319480"/>
              <a:ext cx="1994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ível utóp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áx. preserv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áx. benef. $$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1"/>
            <p:cNvSpPr/>
            <p:nvPr/>
          </p:nvSpPr>
          <p:spPr>
            <a:xfrm flipH="1" flipV="1">
              <a:off x="7019640" y="2204640"/>
              <a:ext cx="431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Oval 22"/>
          <p:cNvSpPr/>
          <p:nvPr/>
        </p:nvSpPr>
        <p:spPr>
          <a:xfrm>
            <a:off x="6541920" y="3098880"/>
            <a:ext cx="21600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23"/>
          <p:cNvSpPr/>
          <p:nvPr/>
        </p:nvSpPr>
        <p:spPr>
          <a:xfrm>
            <a:off x="6545160" y="48117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Line 2"/>
          <p:cNvSpPr/>
          <p:nvPr/>
        </p:nvSpPr>
        <p:spPr>
          <a:xfrm>
            <a:off x="1693800" y="6039000"/>
            <a:ext cx="619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"/>
          <p:cNvSpPr/>
          <p:nvPr/>
        </p:nvSpPr>
        <p:spPr>
          <a:xfrm flipV="1">
            <a:off x="1692360" y="143820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273480" y="621180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enefícios econômicos ($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5"/>
          <p:cNvSpPr/>
          <p:nvPr/>
        </p:nvSpPr>
        <p:spPr>
          <a:xfrm rot="16200000">
            <a:off x="-411840" y="3525480"/>
            <a:ext cx="29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eservação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975240" y="328680"/>
            <a:ext cx="74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Mudança do padrão da Curva de Compromi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rc 7"/>
          <p:cNvSpPr/>
          <p:nvPr/>
        </p:nvSpPr>
        <p:spPr>
          <a:xfrm>
            <a:off x="1692360" y="2158920"/>
            <a:ext cx="5184720" cy="3888000"/>
          </a:xfrm>
          <a:custGeom>
            <a:avLst/>
            <a:gdLst>
              <a:gd name="textAreaLeft" fmla="*/ 0 w 5184720"/>
              <a:gd name="textAreaRight" fmla="*/ 5185080 w 5184720"/>
              <a:gd name="textAreaTop" fmla="*/ 0 h 3888000"/>
              <a:gd name="textAreaBottom" fmla="*/ 3888360 h 388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4356000" y="1268280"/>
            <a:ext cx="4511880" cy="6426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dução do consumo, Educação ambient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Gestão democrática e participativa, Ética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9"/>
          <p:cNvSpPr/>
          <p:nvPr/>
        </p:nvSpPr>
        <p:spPr>
          <a:xfrm flipH="1">
            <a:off x="1663200" y="3716280"/>
            <a:ext cx="4203720" cy="22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5911920" y="2565360"/>
            <a:ext cx="1584360" cy="34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Group 11"/>
          <p:cNvGrpSpPr/>
          <p:nvPr/>
        </p:nvGrpSpPr>
        <p:grpSpPr>
          <a:xfrm>
            <a:off x="5867280" y="2852640"/>
            <a:ext cx="1020960" cy="3183120"/>
            <a:chOff x="5867280" y="2852640"/>
            <a:chExt cx="1020960" cy="3183120"/>
          </a:xfrm>
        </p:grpSpPr>
        <p:sp>
          <p:nvSpPr>
            <p:cNvPr id="252" name="Line 12"/>
            <p:cNvSpPr/>
            <p:nvPr/>
          </p:nvSpPr>
          <p:spPr>
            <a:xfrm flipV="1">
              <a:off x="5867280" y="2852640"/>
              <a:ext cx="0" cy="31687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AutoShape 13"/>
            <p:cNvSpPr/>
            <p:nvPr/>
          </p:nvSpPr>
          <p:spPr>
            <a:xfrm rot="10800000">
              <a:off x="5955840" y="4436640"/>
              <a:ext cx="560520" cy="360360"/>
            </a:xfrm>
            <a:custGeom>
              <a:avLst/>
              <a:gdLst>
                <a:gd name="textAreaLeft" fmla="*/ 87120 w 560520"/>
                <a:gd name="textAreaRight" fmla="*/ 490680 w 56052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V="1">
              <a:off x="6888240" y="2867040"/>
              <a:ext cx="0" cy="31687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Line 15"/>
          <p:cNvSpPr/>
          <p:nvPr/>
        </p:nvSpPr>
        <p:spPr>
          <a:xfrm>
            <a:off x="1692360" y="2133720"/>
            <a:ext cx="5327640" cy="0"/>
          </a:xfrm>
          <a:prstGeom prst="line">
            <a:avLst/>
          </a:prstGeom>
          <a:ln w="3816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rc 16"/>
          <p:cNvSpPr/>
          <p:nvPr/>
        </p:nvSpPr>
        <p:spPr>
          <a:xfrm>
            <a:off x="1706400" y="2162160"/>
            <a:ext cx="5185080" cy="3887640"/>
          </a:xfrm>
          <a:custGeom>
            <a:avLst/>
            <a:gdLst>
              <a:gd name="textAreaLeft" fmla="*/ 0 w 5185080"/>
              <a:gd name="textAreaRight" fmla="*/ 5185080 w 5185080"/>
              <a:gd name="textAreaTop" fmla="*/ 0 h 3887640"/>
              <a:gd name="textAreaBottom" fmla="*/ 3888000 h 3887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17"/>
          <p:cNvSpPr/>
          <p:nvPr/>
        </p:nvSpPr>
        <p:spPr>
          <a:xfrm>
            <a:off x="6789600" y="59641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18"/>
          <p:cNvSpPr/>
          <p:nvPr/>
        </p:nvSpPr>
        <p:spPr>
          <a:xfrm>
            <a:off x="1604880" y="20764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19"/>
          <p:cNvGrpSpPr/>
          <p:nvPr/>
        </p:nvGrpSpPr>
        <p:grpSpPr>
          <a:xfrm>
            <a:off x="6716880" y="2013120"/>
            <a:ext cx="2473200" cy="1223280"/>
            <a:chOff x="6716880" y="2013120"/>
            <a:chExt cx="2473200" cy="1223280"/>
          </a:xfrm>
        </p:grpSpPr>
        <p:sp>
          <p:nvSpPr>
            <p:cNvPr id="260" name="Oval 20"/>
            <p:cNvSpPr/>
            <p:nvPr/>
          </p:nvSpPr>
          <p:spPr>
            <a:xfrm>
              <a:off x="6716880" y="2013120"/>
              <a:ext cx="215640" cy="21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21"/>
            <p:cNvSpPr/>
            <p:nvPr/>
          </p:nvSpPr>
          <p:spPr>
            <a:xfrm>
              <a:off x="7195680" y="2319480"/>
              <a:ext cx="1994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ível utóp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áx. preserv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áx. benef. $$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H="1" flipV="1">
              <a:off x="7019640" y="2204640"/>
              <a:ext cx="431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Oval 23"/>
          <p:cNvSpPr/>
          <p:nvPr/>
        </p:nvSpPr>
        <p:spPr>
          <a:xfrm>
            <a:off x="5759280" y="3600360"/>
            <a:ext cx="21600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24"/>
          <p:cNvSpPr/>
          <p:nvPr/>
        </p:nvSpPr>
        <p:spPr>
          <a:xfrm>
            <a:off x="6545160" y="48117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Line 2"/>
          <p:cNvSpPr/>
          <p:nvPr/>
        </p:nvSpPr>
        <p:spPr>
          <a:xfrm>
            <a:off x="1693800" y="6039000"/>
            <a:ext cx="619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3"/>
          <p:cNvSpPr/>
          <p:nvPr/>
        </p:nvSpPr>
        <p:spPr>
          <a:xfrm flipV="1">
            <a:off x="1692360" y="143820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273480" y="621180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enefícios econômicos ($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"/>
          <p:cNvSpPr/>
          <p:nvPr/>
        </p:nvSpPr>
        <p:spPr>
          <a:xfrm rot="16200000">
            <a:off x="-411840" y="3525480"/>
            <a:ext cx="29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eservação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975240" y="328680"/>
            <a:ext cx="74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Mudança do padrão da Curva de Compromi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rc 7"/>
          <p:cNvSpPr/>
          <p:nvPr/>
        </p:nvSpPr>
        <p:spPr>
          <a:xfrm>
            <a:off x="1692360" y="2158920"/>
            <a:ext cx="5184720" cy="3888000"/>
          </a:xfrm>
          <a:custGeom>
            <a:avLst/>
            <a:gdLst>
              <a:gd name="textAreaLeft" fmla="*/ 0 w 5184720"/>
              <a:gd name="textAreaRight" fmla="*/ 5185080 w 5184720"/>
              <a:gd name="textAreaTop" fmla="*/ 0 h 3888000"/>
              <a:gd name="textAreaBottom" fmla="*/ 3888360 h 388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rc 8"/>
          <p:cNvSpPr/>
          <p:nvPr/>
        </p:nvSpPr>
        <p:spPr>
          <a:xfrm>
            <a:off x="1692360" y="2158920"/>
            <a:ext cx="5205240" cy="2638440"/>
          </a:xfrm>
          <a:custGeom>
            <a:avLst/>
            <a:gdLst>
              <a:gd name="textAreaLeft" fmla="*/ 0 w 5205240"/>
              <a:gd name="textAreaRight" fmla="*/ 5205600 w 5205240"/>
              <a:gd name="textAreaTop" fmla="*/ 0 h 2638440"/>
              <a:gd name="textAreaBottom" fmla="*/ 2638800 h 2638440"/>
            </a:gdLst>
            <a:ahLst/>
            <a:rect l="textAreaLeft" t="textAreaTop" r="textAreaRight" b="textAreaBottom"/>
            <a:pathLst>
              <a:path fill="none" w="18122" h="21600">
                <a:moveTo>
                  <a:pt x="-1" y="0"/>
                </a:moveTo>
                <a:cubicBezTo>
                  <a:pt x="7318" y="0"/>
                  <a:pt x="14139" y="3705"/>
                  <a:pt x="18121" y="9846"/>
                </a:cubicBezTo>
              </a:path>
              <a:path stroke="0" w="18122" h="21600">
                <a:moveTo>
                  <a:pt x="-1" y="0"/>
                </a:moveTo>
                <a:cubicBezTo>
                  <a:pt x="7318" y="0"/>
                  <a:pt x="14139" y="3705"/>
                  <a:pt x="18121" y="984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2412720" y="1123920"/>
            <a:ext cx="6726600" cy="7340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ência e Tecnologia 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+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Redução do consumo, Educação ambient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Gestão democrática e participativa, Ética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1692000" y="2852640"/>
            <a:ext cx="417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"/>
          <p:cNvSpPr/>
          <p:nvPr/>
        </p:nvSpPr>
        <p:spPr>
          <a:xfrm flipH="1">
            <a:off x="1663200" y="3716280"/>
            <a:ext cx="4203720" cy="22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5911920" y="2565360"/>
            <a:ext cx="1584360" cy="34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13"/>
          <p:cNvGrpSpPr/>
          <p:nvPr/>
        </p:nvGrpSpPr>
        <p:grpSpPr>
          <a:xfrm>
            <a:off x="5867280" y="2852640"/>
            <a:ext cx="792360" cy="3183120"/>
            <a:chOff x="5867280" y="2852640"/>
            <a:chExt cx="792360" cy="3183120"/>
          </a:xfrm>
        </p:grpSpPr>
        <p:sp>
          <p:nvSpPr>
            <p:cNvPr id="277" name="Line 14"/>
            <p:cNvSpPr/>
            <p:nvPr/>
          </p:nvSpPr>
          <p:spPr>
            <a:xfrm flipV="1">
              <a:off x="5867280" y="2852640"/>
              <a:ext cx="0" cy="31687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AutoShape 15"/>
            <p:cNvSpPr/>
            <p:nvPr/>
          </p:nvSpPr>
          <p:spPr>
            <a:xfrm rot="10800000">
              <a:off x="5955840" y="4436640"/>
              <a:ext cx="560520" cy="360360"/>
            </a:xfrm>
            <a:custGeom>
              <a:avLst/>
              <a:gdLst>
                <a:gd name="textAreaLeft" fmla="*/ 87120 w 560520"/>
                <a:gd name="textAreaRight" fmla="*/ 490680 w 56052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16"/>
            <p:cNvSpPr/>
            <p:nvPr/>
          </p:nvSpPr>
          <p:spPr>
            <a:xfrm flipV="1">
              <a:off x="6659640" y="2867040"/>
              <a:ext cx="0" cy="31687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Line 17"/>
          <p:cNvSpPr/>
          <p:nvPr/>
        </p:nvSpPr>
        <p:spPr>
          <a:xfrm>
            <a:off x="1692360" y="2133720"/>
            <a:ext cx="5327640" cy="0"/>
          </a:xfrm>
          <a:prstGeom prst="line">
            <a:avLst/>
          </a:prstGeom>
          <a:ln w="3816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18"/>
          <p:cNvSpPr/>
          <p:nvPr/>
        </p:nvSpPr>
        <p:spPr>
          <a:xfrm rot="16200000">
            <a:off x="6056280" y="3241440"/>
            <a:ext cx="560160" cy="360360"/>
          </a:xfrm>
          <a:custGeom>
            <a:avLst/>
            <a:gdLst>
              <a:gd name="textAreaLeft" fmla="*/ 87480 w 560160"/>
              <a:gd name="textAreaRight" fmla="*/ 490320 w 5601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rc 19"/>
          <p:cNvSpPr/>
          <p:nvPr/>
        </p:nvSpPr>
        <p:spPr>
          <a:xfrm>
            <a:off x="1692360" y="2149560"/>
            <a:ext cx="5184720" cy="3887640"/>
          </a:xfrm>
          <a:custGeom>
            <a:avLst/>
            <a:gdLst>
              <a:gd name="textAreaLeft" fmla="*/ 0 w 5184720"/>
              <a:gd name="textAreaRight" fmla="*/ 5185080 w 5184720"/>
              <a:gd name="textAreaTop" fmla="*/ 0 h 3887640"/>
              <a:gd name="textAreaBottom" fmla="*/ 3888000 h 3887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5869080" y="2852640"/>
            <a:ext cx="0" cy="3168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6789600" y="59641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22"/>
          <p:cNvSpPr/>
          <p:nvPr/>
        </p:nvSpPr>
        <p:spPr>
          <a:xfrm>
            <a:off x="1604880" y="20764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23"/>
          <p:cNvGrpSpPr/>
          <p:nvPr/>
        </p:nvGrpSpPr>
        <p:grpSpPr>
          <a:xfrm>
            <a:off x="6716880" y="2013120"/>
            <a:ext cx="2473200" cy="1223280"/>
            <a:chOff x="6716880" y="2013120"/>
            <a:chExt cx="2473200" cy="1223280"/>
          </a:xfrm>
        </p:grpSpPr>
        <p:sp>
          <p:nvSpPr>
            <p:cNvPr id="287" name="Oval 24"/>
            <p:cNvSpPr/>
            <p:nvPr/>
          </p:nvSpPr>
          <p:spPr>
            <a:xfrm>
              <a:off x="6716880" y="2013120"/>
              <a:ext cx="215640" cy="21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25"/>
            <p:cNvSpPr/>
            <p:nvPr/>
          </p:nvSpPr>
          <p:spPr>
            <a:xfrm>
              <a:off x="7195680" y="2319480"/>
              <a:ext cx="1994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ível utóp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áx. preserv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áx. benef. $$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26"/>
            <p:cNvSpPr/>
            <p:nvPr/>
          </p:nvSpPr>
          <p:spPr>
            <a:xfrm flipH="1" flipV="1">
              <a:off x="7019640" y="2204640"/>
              <a:ext cx="431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Oval 27"/>
          <p:cNvSpPr/>
          <p:nvPr/>
        </p:nvSpPr>
        <p:spPr>
          <a:xfrm>
            <a:off x="5759280" y="3600360"/>
            <a:ext cx="21600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28"/>
          <p:cNvSpPr/>
          <p:nvPr/>
        </p:nvSpPr>
        <p:spPr>
          <a:xfrm>
            <a:off x="6545160" y="48117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29"/>
          <p:cNvSpPr/>
          <p:nvPr/>
        </p:nvSpPr>
        <p:spPr>
          <a:xfrm>
            <a:off x="5767560" y="2738520"/>
            <a:ext cx="21564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59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Água ou recurso hídric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tituição Federal de 19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terminou uma postura estatal, legal e institucional, focada nos “recursos hídric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lítica Nacional (e Estaduais) d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stema Nacional de Gerenciamento d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selho Nacional d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ários órgãos d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4560" y="691920"/>
            <a:ext cx="90075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Lei 9.433/97 é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tropocêntric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utilitarist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voltada aos interesses econômicos da sociedade, em que os “recursos hídricos” e não as “águas” são geren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5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o criar uma política e toda uma postura estatal para gerir uma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ircunstânci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a água? Isso é razoá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5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que faz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Seguir adiante com essa visão artificial e econômica? Distinguindo o o que não é possível distinguir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Entender que a PNRH é uma política secundária? (não é, propriamente, “Lei das Águas”, mas “Lei de Recursos Hídricos”)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Reunir em uma única postura estatal, em um único comportamento social, </a:t>
            </a:r>
            <a:r>
              <a:rPr b="0" lang="pt-BR" sz="2700" spc="-1" strike="noStrike" u="sng">
                <a:solidFill>
                  <a:srgbClr val="000000"/>
                </a:solidFill>
                <a:uFillTx/>
                <a:latin typeface="Times New Roman"/>
              </a:rPr>
              <a:t>todas</a:t>
            </a: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as responsabilidades sobre as águas (ambiental, social, econômica, ética ...)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cc"/>
                </a:solidFill>
                <a:latin typeface="Times New Roman"/>
              </a:rPr>
              <a:t>Consider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4560" y="691920"/>
            <a:ext cx="90075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Lei reconhece que a gestão de recursos hídricos e a gestão ambiental pertencem 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áreas distinta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vem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passar por um processo d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g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al integração requer adaptações nas duas legislações sobre, pelo menos (caminho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000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calas de trabalh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000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iculação entre outorga e licenciamento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000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ançamento de eflu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000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0000"/>
                </a:solidFill>
                <a:uFillTx/>
                <a:latin typeface="Times New Roman"/>
              </a:rPr>
              <a:t>Consensos sobre vazões ambientai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| Planos de Recursos Hídricos (enquadramento quantitat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000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cc"/>
                </a:solidFill>
                <a:latin typeface="Times New Roman"/>
              </a:rPr>
              <a:t>Consider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3276720" y="4089240"/>
            <a:ext cx="1296720" cy="12560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Oval 5"/>
          <p:cNvSpPr/>
          <p:nvPr/>
        </p:nvSpPr>
        <p:spPr>
          <a:xfrm>
            <a:off x="3649680" y="5576760"/>
            <a:ext cx="503280" cy="459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Oval 6"/>
          <p:cNvSpPr/>
          <p:nvPr/>
        </p:nvSpPr>
        <p:spPr>
          <a:xfrm>
            <a:off x="5219640" y="3903840"/>
            <a:ext cx="1513080" cy="14414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7"/>
          <p:cNvSpPr/>
          <p:nvPr/>
        </p:nvSpPr>
        <p:spPr>
          <a:xfrm>
            <a:off x="5508720" y="5564160"/>
            <a:ext cx="865080" cy="789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8"/>
          <p:cNvSpPr/>
          <p:nvPr/>
        </p:nvSpPr>
        <p:spPr>
          <a:xfrm flipH="1" flipV="1">
            <a:off x="5958000" y="5336640"/>
            <a:ext cx="1440" cy="23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Group 9"/>
          <p:cNvGrpSpPr/>
          <p:nvPr/>
        </p:nvGrpSpPr>
        <p:grpSpPr>
          <a:xfrm>
            <a:off x="324000" y="6491160"/>
            <a:ext cx="8715240" cy="381240"/>
            <a:chOff x="324000" y="6491160"/>
            <a:chExt cx="8715240" cy="381240"/>
          </a:xfrm>
        </p:grpSpPr>
        <p:sp>
          <p:nvSpPr>
            <p:cNvPr id="303" name="Line 10"/>
            <p:cNvSpPr/>
            <p:nvPr/>
          </p:nvSpPr>
          <p:spPr>
            <a:xfrm>
              <a:off x="324000" y="6524640"/>
              <a:ext cx="84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11"/>
            <p:cNvSpPr/>
            <p:nvPr/>
          </p:nvSpPr>
          <p:spPr>
            <a:xfrm>
              <a:off x="449280" y="65023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98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1836720" y="64944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9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13"/>
            <p:cNvSpPr/>
            <p:nvPr/>
          </p:nvSpPr>
          <p:spPr>
            <a:xfrm>
              <a:off x="3565440" y="64911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99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14"/>
            <p:cNvSpPr/>
            <p:nvPr/>
          </p:nvSpPr>
          <p:spPr>
            <a:xfrm>
              <a:off x="5726160" y="64911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5"/>
            <p:cNvSpPr/>
            <p:nvPr/>
          </p:nvSpPr>
          <p:spPr>
            <a:xfrm>
              <a:off x="7841880" y="650412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Times New Roman"/>
                  <a:ea typeface="Arial"/>
                </a:rPr>
                <a:t>2020/30(?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16"/>
          <p:cNvGrpSpPr/>
          <p:nvPr/>
        </p:nvGrpSpPr>
        <p:grpSpPr>
          <a:xfrm>
            <a:off x="238680" y="4770360"/>
            <a:ext cx="2675520" cy="1297800"/>
            <a:chOff x="238680" y="4770360"/>
            <a:chExt cx="2675520" cy="1297800"/>
          </a:xfrm>
        </p:grpSpPr>
        <p:sp>
          <p:nvSpPr>
            <p:cNvPr id="310" name="Oval 17"/>
            <p:cNvSpPr/>
            <p:nvPr/>
          </p:nvSpPr>
          <p:spPr>
            <a:xfrm>
              <a:off x="539640" y="4770360"/>
              <a:ext cx="503280" cy="503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238680" y="5761080"/>
              <a:ext cx="26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A: Meio ambiente (Lei 6938/8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19"/>
          <p:cNvGrpSpPr/>
          <p:nvPr/>
        </p:nvGrpSpPr>
        <p:grpSpPr>
          <a:xfrm>
            <a:off x="230040" y="4253040"/>
            <a:ext cx="3446640" cy="2088000"/>
            <a:chOff x="230040" y="4253040"/>
            <a:chExt cx="3446640" cy="2088000"/>
          </a:xfrm>
        </p:grpSpPr>
        <p:sp>
          <p:nvSpPr>
            <p:cNvPr id="313" name="Oval 20"/>
            <p:cNvSpPr/>
            <p:nvPr/>
          </p:nvSpPr>
          <p:spPr>
            <a:xfrm>
              <a:off x="1619280" y="4253040"/>
              <a:ext cx="1079640" cy="1079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Group 21"/>
            <p:cNvGrpSpPr/>
            <p:nvPr/>
          </p:nvGrpSpPr>
          <p:grpSpPr>
            <a:xfrm>
              <a:off x="230040" y="4957920"/>
              <a:ext cx="3446640" cy="1383120"/>
              <a:chOff x="230040" y="4957920"/>
              <a:chExt cx="3446640" cy="1383120"/>
            </a:xfrm>
          </p:grpSpPr>
          <p:sp>
            <p:nvSpPr>
              <p:cNvPr id="315" name="Oval 22"/>
              <p:cNvSpPr/>
              <p:nvPr/>
            </p:nvSpPr>
            <p:spPr>
              <a:xfrm>
                <a:off x="1951200" y="4957920"/>
                <a:ext cx="433080" cy="3603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R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Text Box 23"/>
              <p:cNvSpPr/>
              <p:nvPr/>
            </p:nvSpPr>
            <p:spPr>
              <a:xfrm>
                <a:off x="230040" y="6033960"/>
                <a:ext cx="344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RH: Recursos hídricos (CF 88 e Lei 9433/97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7" name="Group 24"/>
          <p:cNvGrpSpPr/>
          <p:nvPr/>
        </p:nvGrpSpPr>
        <p:grpSpPr>
          <a:xfrm>
            <a:off x="7207200" y="3759120"/>
            <a:ext cx="1800360" cy="2477880"/>
            <a:chOff x="7207200" y="3759120"/>
            <a:chExt cx="1800360" cy="2477880"/>
          </a:xfrm>
        </p:grpSpPr>
        <p:sp>
          <p:nvSpPr>
            <p:cNvPr id="318" name="Oval 25"/>
            <p:cNvSpPr/>
            <p:nvPr/>
          </p:nvSpPr>
          <p:spPr>
            <a:xfrm>
              <a:off x="7207200" y="3759120"/>
              <a:ext cx="1800360" cy="18302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26"/>
            <p:cNvSpPr/>
            <p:nvPr/>
          </p:nvSpPr>
          <p:spPr>
            <a:xfrm>
              <a:off x="7535880" y="4939920"/>
              <a:ext cx="1225440" cy="1297080"/>
            </a:xfrm>
            <a:prstGeom prst="ellipse">
              <a:avLst/>
            </a:prstGeom>
            <a:solidFill>
              <a:srgbClr val="00ffff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27"/>
            <p:cNvSpPr/>
            <p:nvPr/>
          </p:nvSpPr>
          <p:spPr>
            <a:xfrm>
              <a:off x="7736400" y="5081400"/>
              <a:ext cx="76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33cc"/>
                  </a:solidFill>
                  <a:latin typeface="Times New Roman"/>
                  <a:ea typeface="Arial"/>
                </a:rPr>
                <a:t>Águ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Line 28"/>
          <p:cNvSpPr/>
          <p:nvPr/>
        </p:nvSpPr>
        <p:spPr>
          <a:xfrm flipV="1">
            <a:off x="3905280" y="53402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Times New Roman"/>
              </a:rPr>
              <a:t>Obrigado pela atençã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6"/>
          <p:cNvGrpSpPr/>
          <p:nvPr/>
        </p:nvGrpSpPr>
        <p:grpSpPr>
          <a:xfrm>
            <a:off x="3064680" y="5033880"/>
            <a:ext cx="5900400" cy="1649160"/>
            <a:chOff x="3064680" y="5033880"/>
            <a:chExt cx="5900400" cy="1649160"/>
          </a:xfrm>
        </p:grpSpPr>
        <p:sp>
          <p:nvSpPr>
            <p:cNvPr id="324" name="Text Box 7"/>
            <p:cNvSpPr/>
            <p:nvPr/>
          </p:nvSpPr>
          <p:spPr>
            <a:xfrm>
              <a:off x="3084480" y="5430960"/>
              <a:ext cx="5880600" cy="1252080"/>
            </a:xfrm>
            <a:prstGeom prst="rect">
              <a:avLst/>
            </a:prstGeom>
            <a:solidFill>
              <a:srgbClr val="ff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i="1" lang="pt-BR" sz="2800" spc="-1" strike="noStrike">
                  <a:solidFill>
                    <a:srgbClr val="000000"/>
                  </a:solidFill>
                  <a:latin typeface="Times New Roman"/>
                </a:rPr>
                <a:t>Não é apropriado ver como separad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Times New Roman"/>
                </a:rPr>
                <a:t>coisas que não se podem distinguir</a:t>
              </a: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lbert Einste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8"/>
            <p:cNvSpPr/>
            <p:nvPr/>
          </p:nvSpPr>
          <p:spPr>
            <a:xfrm>
              <a:off x="3064680" y="503388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Times New Roman"/>
                </a:rPr>
                <a:t>Insisto</a:t>
              </a:r>
              <a:r>
                <a:rPr b="0" lang="pt-BR" sz="24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AguaNoBrasilenoMundo"/>
          <p:cNvPicPr/>
          <p:nvPr/>
        </p:nvPicPr>
        <p:blipFill>
          <a:blip r:embed="rId1"/>
          <a:srcRect l="1091" t="987" r="77224" b="92333"/>
          <a:stretch/>
        </p:blipFill>
        <p:spPr>
          <a:xfrm>
            <a:off x="0" y="0"/>
            <a:ext cx="6516720" cy="27874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768240" y="1595520"/>
            <a:ext cx="77058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imes New Roman"/>
              </a:rPr>
              <a:t>Superintendência de Outorga e Fiscal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Times New Roman"/>
              </a:rPr>
              <a:t>Luciano Meneses Cardoso da Silva, D.E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Gerente de Outo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pecialista em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lmeneses@ana.gov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.:  (61) 2109-5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ww.ana.gov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5" descr="smiley_lg_wht"/>
          <p:cNvPicPr/>
          <p:nvPr/>
        </p:nvPicPr>
        <p:blipFill>
          <a:blip r:embed="rId2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1951560" y="2727360"/>
            <a:ext cx="492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1. Escalas de trabalh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6480" y="1440"/>
            <a:ext cx="9137520" cy="685656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3"/>
          <p:cNvSpPr/>
          <p:nvPr/>
        </p:nvSpPr>
        <p:spPr>
          <a:xfrm>
            <a:off x="3276720" y="3716280"/>
            <a:ext cx="718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Webdings"/>
                <a:ea typeface="Webdings"/>
              </a:rPr>
              <a:t>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4"/>
          <p:cNvGrpSpPr/>
          <p:nvPr/>
        </p:nvGrpSpPr>
        <p:grpSpPr>
          <a:xfrm>
            <a:off x="2987640" y="635040"/>
            <a:ext cx="2460600" cy="2362320"/>
            <a:chOff x="2987640" y="635040"/>
            <a:chExt cx="2460600" cy="2362320"/>
          </a:xfrm>
        </p:grpSpPr>
        <p:grpSp>
          <p:nvGrpSpPr>
            <p:cNvPr id="334" name="Group 5"/>
            <p:cNvGrpSpPr/>
            <p:nvPr/>
          </p:nvGrpSpPr>
          <p:grpSpPr>
            <a:xfrm>
              <a:off x="3131640" y="635040"/>
              <a:ext cx="2316600" cy="2289240"/>
              <a:chOff x="3131640" y="635040"/>
              <a:chExt cx="2316600" cy="2289240"/>
            </a:xfrm>
          </p:grpSpPr>
          <p:sp>
            <p:nvSpPr>
              <p:cNvPr id="335" name="Line 6"/>
              <p:cNvSpPr/>
              <p:nvPr/>
            </p:nvSpPr>
            <p:spPr>
              <a:xfrm flipH="1">
                <a:off x="3850920" y="1268280"/>
                <a:ext cx="1081080" cy="6480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 flipH="1">
                <a:off x="3131640" y="1268280"/>
                <a:ext cx="1800360" cy="1297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Line 8"/>
              <p:cNvSpPr/>
              <p:nvPr/>
            </p:nvSpPr>
            <p:spPr>
              <a:xfrm flipH="1">
                <a:off x="4571640" y="1268280"/>
                <a:ext cx="360360" cy="16560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Text Box 9"/>
              <p:cNvSpPr/>
              <p:nvPr/>
            </p:nvSpPr>
            <p:spPr>
              <a:xfrm>
                <a:off x="4873680" y="635040"/>
                <a:ext cx="574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60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Oval 10"/>
            <p:cNvSpPr/>
            <p:nvPr/>
          </p:nvSpPr>
          <p:spPr>
            <a:xfrm>
              <a:off x="2987640" y="249228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11"/>
            <p:cNvSpPr/>
            <p:nvPr/>
          </p:nvSpPr>
          <p:spPr>
            <a:xfrm>
              <a:off x="4427640" y="285264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12"/>
            <p:cNvSpPr/>
            <p:nvPr/>
          </p:nvSpPr>
          <p:spPr>
            <a:xfrm>
              <a:off x="3708360" y="1916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3"/>
          <p:cNvGrpSpPr/>
          <p:nvPr/>
        </p:nvGrpSpPr>
        <p:grpSpPr>
          <a:xfrm>
            <a:off x="325440" y="3933720"/>
            <a:ext cx="6335640" cy="2376720"/>
            <a:chOff x="325440" y="3933720"/>
            <a:chExt cx="6335640" cy="2376720"/>
          </a:xfrm>
        </p:grpSpPr>
        <p:grpSp>
          <p:nvGrpSpPr>
            <p:cNvPr id="343" name="Group 14"/>
            <p:cNvGrpSpPr/>
            <p:nvPr/>
          </p:nvGrpSpPr>
          <p:grpSpPr>
            <a:xfrm>
              <a:off x="325440" y="4076640"/>
              <a:ext cx="6191280" cy="2233800"/>
              <a:chOff x="325440" y="4076640"/>
              <a:chExt cx="6191280" cy="2233800"/>
            </a:xfrm>
          </p:grpSpPr>
          <p:sp>
            <p:nvSpPr>
              <p:cNvPr id="344" name="Text Box 15"/>
              <p:cNvSpPr/>
              <p:nvPr/>
            </p:nvSpPr>
            <p:spPr>
              <a:xfrm>
                <a:off x="325440" y="5302080"/>
                <a:ext cx="574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60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16"/>
              <p:cNvSpPr/>
              <p:nvPr/>
            </p:nvSpPr>
            <p:spPr>
              <a:xfrm flipV="1">
                <a:off x="826920" y="4723920"/>
                <a:ext cx="2521080" cy="10810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17"/>
              <p:cNvSpPr/>
              <p:nvPr/>
            </p:nvSpPr>
            <p:spPr>
              <a:xfrm>
                <a:off x="826920" y="5805360"/>
                <a:ext cx="2160720" cy="1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Line 18"/>
              <p:cNvSpPr/>
              <p:nvPr/>
            </p:nvSpPr>
            <p:spPr>
              <a:xfrm flipV="1">
                <a:off x="826920" y="4076640"/>
                <a:ext cx="5689800" cy="1728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Oval 19"/>
            <p:cNvSpPr/>
            <p:nvPr/>
          </p:nvSpPr>
          <p:spPr>
            <a:xfrm>
              <a:off x="2898720" y="585612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20"/>
            <p:cNvSpPr/>
            <p:nvPr/>
          </p:nvSpPr>
          <p:spPr>
            <a:xfrm>
              <a:off x="6516720" y="393372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Oval 21"/>
            <p:cNvSpPr/>
            <p:nvPr/>
          </p:nvSpPr>
          <p:spPr>
            <a:xfrm>
              <a:off x="3348000" y="472428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22"/>
          <p:cNvGrpSpPr/>
          <p:nvPr/>
        </p:nvGrpSpPr>
        <p:grpSpPr>
          <a:xfrm>
            <a:off x="3203640" y="3789360"/>
            <a:ext cx="5674680" cy="2160720"/>
            <a:chOff x="3203640" y="3789360"/>
            <a:chExt cx="5674680" cy="2160720"/>
          </a:xfrm>
        </p:grpSpPr>
        <p:sp>
          <p:nvSpPr>
            <p:cNvPr id="352" name="Oval 23"/>
            <p:cNvSpPr/>
            <p:nvPr/>
          </p:nvSpPr>
          <p:spPr>
            <a:xfrm>
              <a:off x="3203640" y="3789360"/>
              <a:ext cx="792000" cy="647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Oval 24"/>
            <p:cNvSpPr/>
            <p:nvPr/>
          </p:nvSpPr>
          <p:spPr>
            <a:xfrm>
              <a:off x="6181560" y="5446800"/>
              <a:ext cx="649440" cy="503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5"/>
            <p:cNvSpPr/>
            <p:nvPr/>
          </p:nvSpPr>
          <p:spPr>
            <a:xfrm>
              <a:off x="6879600" y="5443560"/>
              <a:ext cx="199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Influência dire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Group 26"/>
          <p:cNvGrpSpPr/>
          <p:nvPr/>
        </p:nvGrpSpPr>
        <p:grpSpPr>
          <a:xfrm>
            <a:off x="2987640" y="3645000"/>
            <a:ext cx="6097320" cy="2952720"/>
            <a:chOff x="2987640" y="3645000"/>
            <a:chExt cx="6097320" cy="2952720"/>
          </a:xfrm>
        </p:grpSpPr>
        <p:sp>
          <p:nvSpPr>
            <p:cNvPr id="356" name="Oval 27"/>
            <p:cNvSpPr/>
            <p:nvPr/>
          </p:nvSpPr>
          <p:spPr>
            <a:xfrm>
              <a:off x="2987640" y="3645000"/>
              <a:ext cx="1440000" cy="936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Oval 28"/>
            <p:cNvSpPr/>
            <p:nvPr/>
          </p:nvSpPr>
          <p:spPr>
            <a:xfrm>
              <a:off x="6181560" y="6094440"/>
              <a:ext cx="649440" cy="503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Text Box 29"/>
            <p:cNvSpPr/>
            <p:nvPr/>
          </p:nvSpPr>
          <p:spPr>
            <a:xfrm>
              <a:off x="6874200" y="6129360"/>
              <a:ext cx="22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Influência indire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Text Box 30"/>
          <p:cNvSpPr/>
          <p:nvPr/>
        </p:nvSpPr>
        <p:spPr>
          <a:xfrm>
            <a:off x="39240" y="22320"/>
            <a:ext cx="9047520" cy="56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imes New Roman"/>
              </a:rPr>
              <a:t>O que cada órgão faz? Questão de escala de trabalh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36080" y="379080"/>
            <a:ext cx="9007560" cy="62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1. Escalas (distintas) de trabal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Área de recursos hídricos: </a:t>
            </a:r>
            <a:r>
              <a:rPr b="1" lang="pt-BR" sz="2800" spc="-1" strike="noStrike">
                <a:solidFill>
                  <a:srgbClr val="3333cc"/>
                </a:solidFill>
                <a:latin typeface="Times New Roman"/>
              </a:rPr>
              <a:t>Ba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locação quali-quantitativa dos recursos hídricos na bacia hidrográfica (dezenas, centenas e milhares de quilômetros quadr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valia se há conflito com outros usos antrópicos dos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Área ambiental: </a:t>
            </a:r>
            <a:r>
              <a:rPr b="1" lang="pt-BR" sz="2800" spc="-1" strike="noStrike">
                <a:solidFill>
                  <a:srgbClr val="996600"/>
                </a:solidFill>
                <a:latin typeface="Times New Roman"/>
              </a:rPr>
              <a:t>Entorno do empreend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nas proximidades do empreendimento (análise mais abrangente e complement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ovimentação de ter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rrubada de ma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cupação de A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missão de poluentes atmosféricos e ruí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drões de eflu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mpactos sobre o meio biótico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136080" y="379080"/>
            <a:ext cx="8828280" cy="62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1. Escalas (distintas) de trabalho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(exemplo de articul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Lançamento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área de recursos hídricos calcula a interferência quali-qualitativa no rio (considerando montante/jusante, outros usuário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área ambiental define o melhor posicionamento do ponto de lançamento (ajuste fi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311040" y="3992400"/>
            <a:ext cx="2352960" cy="2641680"/>
            <a:chOff x="311040" y="3992400"/>
            <a:chExt cx="2352960" cy="2641680"/>
          </a:xfrm>
        </p:grpSpPr>
        <p:sp>
          <p:nvSpPr>
            <p:cNvPr id="363" name="Freeform 4"/>
            <p:cNvSpPr/>
            <p:nvPr/>
          </p:nvSpPr>
          <p:spPr>
            <a:xfrm>
              <a:off x="995400" y="4365720"/>
              <a:ext cx="1272960" cy="2087640"/>
            </a:xfrm>
            <a:custGeom>
              <a:avLst/>
              <a:gdLst>
                <a:gd name="textAreaLeft" fmla="*/ 0 w 1272960"/>
                <a:gd name="textAreaRight" fmla="*/ 1273320 w 1272960"/>
                <a:gd name="textAreaTop" fmla="*/ 0 h 2087640"/>
                <a:gd name="textAreaBottom" fmla="*/ 2088000 h 2087640"/>
              </a:gdLst>
              <a:ahLst/>
              <a:rect l="textAreaLeft" t="textAreaTop" r="textAreaRight" b="textAreaBottom"/>
              <a:pathLst>
                <a:path w="802" h="1315">
                  <a:moveTo>
                    <a:pt x="76" y="0"/>
                  </a:moveTo>
                  <a:cubicBezTo>
                    <a:pt x="38" y="102"/>
                    <a:pt x="0" y="204"/>
                    <a:pt x="30" y="272"/>
                  </a:cubicBezTo>
                  <a:cubicBezTo>
                    <a:pt x="60" y="340"/>
                    <a:pt x="211" y="355"/>
                    <a:pt x="257" y="408"/>
                  </a:cubicBezTo>
                  <a:cubicBezTo>
                    <a:pt x="303" y="461"/>
                    <a:pt x="295" y="536"/>
                    <a:pt x="303" y="589"/>
                  </a:cubicBezTo>
                  <a:cubicBezTo>
                    <a:pt x="311" y="642"/>
                    <a:pt x="273" y="680"/>
                    <a:pt x="303" y="725"/>
                  </a:cubicBezTo>
                  <a:cubicBezTo>
                    <a:pt x="333" y="770"/>
                    <a:pt x="439" y="824"/>
                    <a:pt x="484" y="862"/>
                  </a:cubicBezTo>
                  <a:cubicBezTo>
                    <a:pt x="529" y="900"/>
                    <a:pt x="560" y="899"/>
                    <a:pt x="575" y="952"/>
                  </a:cubicBezTo>
                  <a:cubicBezTo>
                    <a:pt x="590" y="1005"/>
                    <a:pt x="560" y="1126"/>
                    <a:pt x="575" y="1179"/>
                  </a:cubicBezTo>
                  <a:cubicBezTo>
                    <a:pt x="590" y="1232"/>
                    <a:pt x="627" y="1247"/>
                    <a:pt x="665" y="1270"/>
                  </a:cubicBezTo>
                  <a:cubicBezTo>
                    <a:pt x="703" y="1293"/>
                    <a:pt x="779" y="1308"/>
                    <a:pt x="802" y="1315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5"/>
            <p:cNvSpPr/>
            <p:nvPr/>
          </p:nvSpPr>
          <p:spPr>
            <a:xfrm>
              <a:off x="1465200" y="4437000"/>
              <a:ext cx="177840" cy="7207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12" h="454">
                  <a:moveTo>
                    <a:pt x="7" y="454"/>
                  </a:moveTo>
                  <a:cubicBezTo>
                    <a:pt x="44" y="408"/>
                    <a:pt x="82" y="363"/>
                    <a:pt x="97" y="318"/>
                  </a:cubicBezTo>
                  <a:cubicBezTo>
                    <a:pt x="112" y="273"/>
                    <a:pt x="112" y="219"/>
                    <a:pt x="97" y="181"/>
                  </a:cubicBezTo>
                  <a:cubicBezTo>
                    <a:pt x="82" y="143"/>
                    <a:pt x="14" y="121"/>
                    <a:pt x="7" y="91"/>
                  </a:cubicBezTo>
                  <a:cubicBezTo>
                    <a:pt x="0" y="61"/>
                    <a:pt x="45" y="15"/>
                    <a:pt x="52" y="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6"/>
            <p:cNvSpPr/>
            <p:nvPr/>
          </p:nvSpPr>
          <p:spPr>
            <a:xfrm>
              <a:off x="684360" y="5084640"/>
              <a:ext cx="934920" cy="61272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612720"/>
                <a:gd name="textAreaBottom" fmla="*/ 612720 h 612720"/>
              </a:gdLst>
              <a:ahLst/>
              <a:rect l="textAreaLeft" t="textAreaTop" r="textAreaRight" b="textAreaBottom"/>
              <a:pathLst>
                <a:path w="589" h="386">
                  <a:moveTo>
                    <a:pt x="589" y="363"/>
                  </a:moveTo>
                  <a:cubicBezTo>
                    <a:pt x="540" y="374"/>
                    <a:pt x="491" y="386"/>
                    <a:pt x="453" y="363"/>
                  </a:cubicBezTo>
                  <a:cubicBezTo>
                    <a:pt x="415" y="340"/>
                    <a:pt x="400" y="250"/>
                    <a:pt x="362" y="227"/>
                  </a:cubicBezTo>
                  <a:cubicBezTo>
                    <a:pt x="324" y="204"/>
                    <a:pt x="264" y="235"/>
                    <a:pt x="226" y="227"/>
                  </a:cubicBezTo>
                  <a:cubicBezTo>
                    <a:pt x="188" y="219"/>
                    <a:pt x="159" y="212"/>
                    <a:pt x="136" y="182"/>
                  </a:cubicBezTo>
                  <a:cubicBezTo>
                    <a:pt x="113" y="152"/>
                    <a:pt x="113" y="76"/>
                    <a:pt x="90" y="46"/>
                  </a:cubicBezTo>
                  <a:cubicBezTo>
                    <a:pt x="67" y="16"/>
                    <a:pt x="33" y="8"/>
                    <a:pt x="0" y="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1882800" y="4700520"/>
              <a:ext cx="299880" cy="111780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w="189" h="704">
                  <a:moveTo>
                    <a:pt x="8" y="704"/>
                  </a:moveTo>
                  <a:cubicBezTo>
                    <a:pt x="53" y="635"/>
                    <a:pt x="98" y="567"/>
                    <a:pt x="98" y="522"/>
                  </a:cubicBezTo>
                  <a:cubicBezTo>
                    <a:pt x="98" y="477"/>
                    <a:pt x="16" y="470"/>
                    <a:pt x="8" y="432"/>
                  </a:cubicBezTo>
                  <a:cubicBezTo>
                    <a:pt x="0" y="394"/>
                    <a:pt x="46" y="341"/>
                    <a:pt x="53" y="296"/>
                  </a:cubicBezTo>
                  <a:cubicBezTo>
                    <a:pt x="60" y="251"/>
                    <a:pt x="53" y="205"/>
                    <a:pt x="53" y="160"/>
                  </a:cubicBezTo>
                  <a:cubicBezTo>
                    <a:pt x="53" y="115"/>
                    <a:pt x="30" y="46"/>
                    <a:pt x="53" y="23"/>
                  </a:cubicBezTo>
                  <a:cubicBezTo>
                    <a:pt x="76" y="0"/>
                    <a:pt x="166" y="15"/>
                    <a:pt x="189" y="23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8"/>
            <p:cNvSpPr/>
            <p:nvPr/>
          </p:nvSpPr>
          <p:spPr>
            <a:xfrm>
              <a:off x="311040" y="3992400"/>
              <a:ext cx="2352960" cy="2641680"/>
            </a:xfrm>
            <a:custGeom>
              <a:avLst/>
              <a:gdLst>
                <a:gd name="textAreaLeft" fmla="*/ 0 w 2352960"/>
                <a:gd name="textAreaRight" fmla="*/ 2353320 w 2352960"/>
                <a:gd name="textAreaTop" fmla="*/ 0 h 2641680"/>
                <a:gd name="textAreaBottom" fmla="*/ 2642040 h 2641680"/>
              </a:gdLst>
              <a:ahLst/>
              <a:rect l="textAreaLeft" t="textAreaTop" r="textAreaRight" b="textAreaBottom"/>
              <a:pathLst>
                <a:path w="1482" h="1664">
                  <a:moveTo>
                    <a:pt x="1233" y="1505"/>
                  </a:moveTo>
                  <a:cubicBezTo>
                    <a:pt x="1256" y="1452"/>
                    <a:pt x="1248" y="1383"/>
                    <a:pt x="1278" y="1323"/>
                  </a:cubicBezTo>
                  <a:cubicBezTo>
                    <a:pt x="1308" y="1263"/>
                    <a:pt x="1384" y="1210"/>
                    <a:pt x="1414" y="1142"/>
                  </a:cubicBezTo>
                  <a:cubicBezTo>
                    <a:pt x="1444" y="1074"/>
                    <a:pt x="1452" y="991"/>
                    <a:pt x="1459" y="915"/>
                  </a:cubicBezTo>
                  <a:cubicBezTo>
                    <a:pt x="1466" y="839"/>
                    <a:pt x="1482" y="786"/>
                    <a:pt x="1459" y="688"/>
                  </a:cubicBezTo>
                  <a:cubicBezTo>
                    <a:pt x="1436" y="590"/>
                    <a:pt x="1384" y="423"/>
                    <a:pt x="1323" y="325"/>
                  </a:cubicBezTo>
                  <a:cubicBezTo>
                    <a:pt x="1262" y="227"/>
                    <a:pt x="1187" y="152"/>
                    <a:pt x="1096" y="99"/>
                  </a:cubicBezTo>
                  <a:cubicBezTo>
                    <a:pt x="1005" y="46"/>
                    <a:pt x="900" y="16"/>
                    <a:pt x="779" y="8"/>
                  </a:cubicBezTo>
                  <a:cubicBezTo>
                    <a:pt x="658" y="0"/>
                    <a:pt x="492" y="0"/>
                    <a:pt x="371" y="53"/>
                  </a:cubicBezTo>
                  <a:cubicBezTo>
                    <a:pt x="250" y="106"/>
                    <a:pt x="106" y="197"/>
                    <a:pt x="53" y="325"/>
                  </a:cubicBezTo>
                  <a:cubicBezTo>
                    <a:pt x="0" y="453"/>
                    <a:pt x="30" y="688"/>
                    <a:pt x="53" y="824"/>
                  </a:cubicBezTo>
                  <a:cubicBezTo>
                    <a:pt x="76" y="960"/>
                    <a:pt x="136" y="1059"/>
                    <a:pt x="189" y="1142"/>
                  </a:cubicBezTo>
                  <a:cubicBezTo>
                    <a:pt x="242" y="1225"/>
                    <a:pt x="295" y="1263"/>
                    <a:pt x="371" y="1323"/>
                  </a:cubicBezTo>
                  <a:cubicBezTo>
                    <a:pt x="447" y="1383"/>
                    <a:pt x="545" y="1452"/>
                    <a:pt x="643" y="1505"/>
                  </a:cubicBezTo>
                  <a:cubicBezTo>
                    <a:pt x="741" y="1558"/>
                    <a:pt x="877" y="1618"/>
                    <a:pt x="960" y="1641"/>
                  </a:cubicBezTo>
                  <a:cubicBezTo>
                    <a:pt x="1043" y="1664"/>
                    <a:pt x="1097" y="1656"/>
                    <a:pt x="1142" y="1641"/>
                  </a:cubicBezTo>
                  <a:cubicBezTo>
                    <a:pt x="1187" y="1626"/>
                    <a:pt x="1210" y="1558"/>
                    <a:pt x="1233" y="1505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Oval 9"/>
          <p:cNvSpPr/>
          <p:nvPr/>
        </p:nvSpPr>
        <p:spPr>
          <a:xfrm>
            <a:off x="140328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6273720" y="5013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1"/>
          <p:cNvSpPr/>
          <p:nvPr/>
        </p:nvSpPr>
        <p:spPr>
          <a:xfrm flipH="1">
            <a:off x="6012000" y="5084640"/>
            <a:ext cx="288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2"/>
          <p:cNvSpPr/>
          <p:nvPr/>
        </p:nvSpPr>
        <p:spPr>
          <a:xfrm>
            <a:off x="6338880" y="5084640"/>
            <a:ext cx="13968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13"/>
          <p:cNvGrpSpPr/>
          <p:nvPr/>
        </p:nvGrpSpPr>
        <p:grpSpPr>
          <a:xfrm>
            <a:off x="1476360" y="4292640"/>
            <a:ext cx="5111640" cy="2567880"/>
            <a:chOff x="1476360" y="4292640"/>
            <a:chExt cx="5111640" cy="2567880"/>
          </a:xfrm>
        </p:grpSpPr>
        <p:grpSp>
          <p:nvGrpSpPr>
            <p:cNvPr id="373" name="Group 14"/>
            <p:cNvGrpSpPr/>
            <p:nvPr/>
          </p:nvGrpSpPr>
          <p:grpSpPr>
            <a:xfrm>
              <a:off x="1476360" y="4292640"/>
              <a:ext cx="5111640" cy="2160720"/>
              <a:chOff x="1476360" y="4292640"/>
              <a:chExt cx="5111640" cy="2160720"/>
            </a:xfrm>
          </p:grpSpPr>
          <p:sp>
            <p:nvSpPr>
              <p:cNvPr id="374" name="Line 15"/>
              <p:cNvSpPr/>
              <p:nvPr/>
            </p:nvSpPr>
            <p:spPr>
              <a:xfrm flipV="1">
                <a:off x="1476360" y="4365720"/>
                <a:ext cx="417528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Line 16"/>
              <p:cNvSpPr/>
              <p:nvPr/>
            </p:nvSpPr>
            <p:spPr>
              <a:xfrm>
                <a:off x="1547640" y="5373720"/>
                <a:ext cx="388800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Freeform 17"/>
              <p:cNvSpPr/>
              <p:nvPr/>
            </p:nvSpPr>
            <p:spPr>
              <a:xfrm>
                <a:off x="5484960" y="4365720"/>
                <a:ext cx="382320" cy="1942920"/>
              </a:xfrm>
              <a:custGeom>
                <a:avLst/>
                <a:gdLst>
                  <a:gd name="textAreaLeft" fmla="*/ 0 w 382320"/>
                  <a:gd name="textAreaRight" fmla="*/ 382680 w 382320"/>
                  <a:gd name="textAreaTop" fmla="*/ 0 h 1942920"/>
                  <a:gd name="textAreaBottom" fmla="*/ 1943280 h 1942920"/>
                </a:gdLst>
                <a:ahLst/>
                <a:rect l="textAreaLeft" t="textAreaTop" r="textAreaRight" b="textAreaBottom"/>
                <a:pathLst>
                  <a:path w="241" h="1224">
                    <a:moveTo>
                      <a:pt x="241" y="0"/>
                    </a:moveTo>
                    <a:cubicBezTo>
                      <a:pt x="203" y="49"/>
                      <a:pt x="166" y="98"/>
                      <a:pt x="151" y="136"/>
                    </a:cubicBezTo>
                    <a:cubicBezTo>
                      <a:pt x="136" y="174"/>
                      <a:pt x="159" y="196"/>
                      <a:pt x="151" y="226"/>
                    </a:cubicBezTo>
                    <a:cubicBezTo>
                      <a:pt x="143" y="256"/>
                      <a:pt x="120" y="279"/>
                      <a:pt x="105" y="317"/>
                    </a:cubicBezTo>
                    <a:cubicBezTo>
                      <a:pt x="90" y="355"/>
                      <a:pt x="60" y="408"/>
                      <a:pt x="60" y="453"/>
                    </a:cubicBezTo>
                    <a:cubicBezTo>
                      <a:pt x="60" y="498"/>
                      <a:pt x="98" y="544"/>
                      <a:pt x="105" y="589"/>
                    </a:cubicBezTo>
                    <a:cubicBezTo>
                      <a:pt x="112" y="634"/>
                      <a:pt x="120" y="680"/>
                      <a:pt x="105" y="725"/>
                    </a:cubicBezTo>
                    <a:cubicBezTo>
                      <a:pt x="90" y="770"/>
                      <a:pt x="30" y="816"/>
                      <a:pt x="15" y="862"/>
                    </a:cubicBezTo>
                    <a:cubicBezTo>
                      <a:pt x="0" y="908"/>
                      <a:pt x="15" y="953"/>
                      <a:pt x="15" y="998"/>
                    </a:cubicBezTo>
                    <a:cubicBezTo>
                      <a:pt x="15" y="1043"/>
                      <a:pt x="7" y="1096"/>
                      <a:pt x="15" y="1134"/>
                    </a:cubicBezTo>
                    <a:cubicBezTo>
                      <a:pt x="23" y="1172"/>
                      <a:pt x="45" y="1209"/>
                      <a:pt x="60" y="1224"/>
                    </a:cubicBezTo>
                  </a:path>
                </a:pathLst>
              </a:custGeom>
              <a:noFill/>
              <a:ln w="2844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Freeform 18"/>
              <p:cNvSpPr/>
              <p:nvPr/>
            </p:nvSpPr>
            <p:spPr>
              <a:xfrm>
                <a:off x="6073920" y="4365720"/>
                <a:ext cx="514080" cy="208764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2087640"/>
                  <a:gd name="textAreaBottom" fmla="*/ 2088000 h 2087640"/>
                </a:gdLst>
                <a:ahLst/>
                <a:rect l="textAreaLeft" t="textAreaTop" r="textAreaRight" b="textAreaBottom"/>
                <a:pathLst>
                  <a:path w="324" h="1315">
                    <a:moveTo>
                      <a:pt x="233" y="0"/>
                    </a:moveTo>
                    <a:cubicBezTo>
                      <a:pt x="191" y="53"/>
                      <a:pt x="150" y="106"/>
                      <a:pt x="143" y="136"/>
                    </a:cubicBezTo>
                    <a:cubicBezTo>
                      <a:pt x="136" y="166"/>
                      <a:pt x="181" y="151"/>
                      <a:pt x="188" y="181"/>
                    </a:cubicBezTo>
                    <a:cubicBezTo>
                      <a:pt x="195" y="211"/>
                      <a:pt x="203" y="279"/>
                      <a:pt x="188" y="317"/>
                    </a:cubicBezTo>
                    <a:cubicBezTo>
                      <a:pt x="173" y="355"/>
                      <a:pt x="112" y="370"/>
                      <a:pt x="97" y="408"/>
                    </a:cubicBezTo>
                    <a:cubicBezTo>
                      <a:pt x="82" y="446"/>
                      <a:pt x="82" y="521"/>
                      <a:pt x="97" y="544"/>
                    </a:cubicBezTo>
                    <a:cubicBezTo>
                      <a:pt x="112" y="567"/>
                      <a:pt x="158" y="559"/>
                      <a:pt x="188" y="544"/>
                    </a:cubicBezTo>
                    <a:cubicBezTo>
                      <a:pt x="218" y="529"/>
                      <a:pt x="256" y="453"/>
                      <a:pt x="279" y="453"/>
                    </a:cubicBezTo>
                    <a:cubicBezTo>
                      <a:pt x="302" y="453"/>
                      <a:pt x="324" y="506"/>
                      <a:pt x="324" y="544"/>
                    </a:cubicBezTo>
                    <a:cubicBezTo>
                      <a:pt x="324" y="582"/>
                      <a:pt x="302" y="657"/>
                      <a:pt x="279" y="680"/>
                    </a:cubicBezTo>
                    <a:cubicBezTo>
                      <a:pt x="256" y="703"/>
                      <a:pt x="226" y="673"/>
                      <a:pt x="188" y="680"/>
                    </a:cubicBezTo>
                    <a:cubicBezTo>
                      <a:pt x="150" y="687"/>
                      <a:pt x="75" y="702"/>
                      <a:pt x="52" y="725"/>
                    </a:cubicBezTo>
                    <a:cubicBezTo>
                      <a:pt x="29" y="748"/>
                      <a:pt x="52" y="778"/>
                      <a:pt x="52" y="816"/>
                    </a:cubicBezTo>
                    <a:cubicBezTo>
                      <a:pt x="52" y="854"/>
                      <a:pt x="59" y="914"/>
                      <a:pt x="52" y="952"/>
                    </a:cubicBezTo>
                    <a:cubicBezTo>
                      <a:pt x="45" y="990"/>
                      <a:pt x="14" y="1005"/>
                      <a:pt x="7" y="1043"/>
                    </a:cubicBezTo>
                    <a:cubicBezTo>
                      <a:pt x="0" y="1081"/>
                      <a:pt x="7" y="1134"/>
                      <a:pt x="7" y="1179"/>
                    </a:cubicBezTo>
                    <a:cubicBezTo>
                      <a:pt x="7" y="1224"/>
                      <a:pt x="7" y="1300"/>
                      <a:pt x="7" y="1315"/>
                    </a:cubicBezTo>
                  </a:path>
                </a:pathLst>
              </a:custGeom>
              <a:noFill/>
              <a:ln w="2844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Line 19"/>
              <p:cNvSpPr/>
              <p:nvPr/>
            </p:nvSpPr>
            <p:spPr>
              <a:xfrm flipH="1">
                <a:off x="6011640" y="4292640"/>
                <a:ext cx="144360" cy="431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Line 20"/>
              <p:cNvSpPr/>
              <p:nvPr/>
            </p:nvSpPr>
            <p:spPr>
              <a:xfrm>
                <a:off x="5796000" y="602136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Text Box 21"/>
            <p:cNvSpPr/>
            <p:nvPr/>
          </p:nvSpPr>
          <p:spPr>
            <a:xfrm>
              <a:off x="5438160" y="640080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Times New Roman"/>
                </a:rPr>
                <a:t>Zo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1. Escalas (distintas) de trabalh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outorga representa para a área ambiental um sinal de que aquele uso da água não causará problemas com outros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os antrópico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da á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área ambiental avaliará o res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4640" y="306360"/>
            <a:ext cx="8785080" cy="643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Água ou recurso hídric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ei n.º 9.433/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strumentos 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“recursos hídric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utorga dos direitos de uso de </a:t>
            </a:r>
            <a:r>
              <a:rPr b="0" lang="pt-BR" sz="2400" spc="-1" strike="noStrike">
                <a:solidFill>
                  <a:srgbClr val="0000cc"/>
                </a:solidFill>
                <a:latin typeface="Times New Roman"/>
              </a:rPr>
              <a:t>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brança pelo uso de </a:t>
            </a:r>
            <a:r>
              <a:rPr b="0" lang="pt-BR" sz="2400" spc="-1" strike="noStrike">
                <a:solidFill>
                  <a:srgbClr val="0000cc"/>
                </a:solidFill>
                <a:latin typeface="Times New Roman"/>
              </a:rPr>
              <a:t>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lanos de </a:t>
            </a:r>
            <a:r>
              <a:rPr b="0" lang="pt-BR" sz="2400" spc="-1" strike="noStrike">
                <a:solidFill>
                  <a:srgbClr val="0000cc"/>
                </a:solidFill>
                <a:latin typeface="Times New Roman"/>
              </a:rPr>
              <a:t>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stema de informações sobre </a:t>
            </a:r>
            <a:r>
              <a:rPr b="0" lang="pt-BR" sz="2400" spc="-1" strike="noStrike">
                <a:solidFill>
                  <a:srgbClr val="0000cc"/>
                </a:solidFill>
                <a:latin typeface="Times New Roman"/>
              </a:rPr>
              <a:t>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quadramento dos </a:t>
            </a:r>
            <a:r>
              <a:rPr b="1" lang="pt-BR" sz="2400" spc="-1" strike="noStrike">
                <a:solidFill>
                  <a:srgbClr val="0000cc"/>
                </a:solidFill>
                <a:latin typeface="Times New Roman"/>
              </a:rPr>
              <a:t>corpos de água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(exceção porque é, originalmente, da política ambien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1258920" y="2682720"/>
            <a:ext cx="66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2. Articulação entre outor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e licenciamento ambien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684360" y="2303640"/>
            <a:ext cx="7777080" cy="228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 obtenção da Outorga dá direito ao </a:t>
            </a: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uso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do recurso hídrico, mas </a:t>
            </a: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não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o direito de “</a:t>
            </a:r>
            <a:r>
              <a:rPr b="0" i="1" lang="pt-BR" sz="3600" spc="-1" strike="noStrike">
                <a:solidFill>
                  <a:srgbClr val="000000"/>
                </a:solidFill>
                <a:latin typeface="Times New Roman"/>
              </a:rPr>
              <a:t>ligar a bomba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”, ou seja, de fazer funcionar o empreendimen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663480" y="19144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embre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696600" y="5013360"/>
            <a:ext cx="7750440" cy="11912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É o licenciamento ambiental que autori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funcionamento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do empreend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4560" y="115920"/>
            <a:ext cx="90075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2. Articulação entre outorga e licenciament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solução CNRH n.º 65/2006 (aprovada em 07/12/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Estabelece diretrizes de articulação dos procedimentos para obtenção da outorga de direito de uso de recursos hídricos com os procedimentos de licenciamento ambiental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1304280" y="112680"/>
            <a:ext cx="7311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nalogia: Outorga x Licenciament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(Concessionária de automóveis x DETR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1014480" y="1433520"/>
            <a:ext cx="4204800" cy="3877920"/>
            <a:chOff x="1014480" y="1433520"/>
            <a:chExt cx="4204800" cy="3877920"/>
          </a:xfrm>
        </p:grpSpPr>
        <p:sp>
          <p:nvSpPr>
            <p:cNvPr id="390" name="AutoShape 4"/>
            <p:cNvSpPr/>
            <p:nvPr/>
          </p:nvSpPr>
          <p:spPr>
            <a:xfrm rot="2426400">
              <a:off x="3058920" y="3789360"/>
              <a:ext cx="1655640" cy="865080"/>
            </a:xfrm>
            <a:custGeom>
              <a:avLst/>
              <a:gdLst>
                <a:gd name="textAreaLeft" fmla="*/ 258480 w 1655640"/>
                <a:gd name="textAreaRight" fmla="*/ 1449360 w 1655640"/>
                <a:gd name="textAreaTop" fmla="*/ 215640 h 865080"/>
                <a:gd name="textAreaBottom" fmla="*/ 64944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5"/>
            <p:cNvGrpSpPr/>
            <p:nvPr/>
          </p:nvGrpSpPr>
          <p:grpSpPr>
            <a:xfrm>
              <a:off x="1014480" y="1433520"/>
              <a:ext cx="4204800" cy="2065320"/>
              <a:chOff x="1014480" y="1433520"/>
              <a:chExt cx="4204800" cy="2065320"/>
            </a:xfrm>
          </p:grpSpPr>
          <p:grpSp>
            <p:nvGrpSpPr>
              <p:cNvPr id="392" name="Group 6"/>
              <p:cNvGrpSpPr/>
              <p:nvPr/>
            </p:nvGrpSpPr>
            <p:grpSpPr>
              <a:xfrm>
                <a:off x="1014480" y="1790640"/>
                <a:ext cx="4204800" cy="1708200"/>
                <a:chOff x="1014480" y="1790640"/>
                <a:chExt cx="4204800" cy="1708200"/>
              </a:xfrm>
            </p:grpSpPr>
            <p:sp>
              <p:nvSpPr>
                <p:cNvPr id="393" name="Text Box 7"/>
                <p:cNvSpPr/>
                <p:nvPr/>
              </p:nvSpPr>
              <p:spPr>
                <a:xfrm>
                  <a:off x="1014480" y="1790640"/>
                  <a:ext cx="275616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4800" spc="-1" strike="noStrike">
                      <a:solidFill>
                        <a:srgbClr val="000000"/>
                      </a:solidFill>
                      <a:latin typeface="Times New Roman"/>
                    </a:rPr>
                    <a:t>DETRAN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AutoShape 8"/>
                <p:cNvSpPr/>
                <p:nvPr/>
              </p:nvSpPr>
              <p:spPr>
                <a:xfrm rot="10800000">
                  <a:off x="3850920" y="2349000"/>
                  <a:ext cx="1368360" cy="574920"/>
                </a:xfrm>
                <a:custGeom>
                  <a:avLst/>
                  <a:gdLst>
                    <a:gd name="textAreaLeft" fmla="*/ 214200 w 1368360"/>
                    <a:gd name="textAreaRight" fmla="*/ 1197000 w 1368360"/>
                    <a:gd name="textAreaTop" fmla="*/ 144360 h 574920"/>
                    <a:gd name="textAreaBottom" fmla="*/ 432000 h 57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Document"/>
                <p:cNvSpPr/>
                <p:nvPr/>
              </p:nvSpPr>
              <p:spPr>
                <a:xfrm>
                  <a:off x="1359000" y="2562120"/>
                  <a:ext cx="1871640" cy="936720"/>
                </a:xfrm>
                <a:prstGeom prst="pie">
                  <a:avLst/>
                </a:pr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Times New Roman"/>
                    </a:rPr>
                    <a:t>Licença do carro e Carteira de Habilitaçã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" name="Text Box 10"/>
              <p:cNvSpPr/>
              <p:nvPr/>
            </p:nvSpPr>
            <p:spPr>
              <a:xfrm>
                <a:off x="1022760" y="1433520"/>
                <a:ext cx="219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(Licenciamento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AutoShape 11"/>
            <p:cNvSpPr/>
            <p:nvPr/>
          </p:nvSpPr>
          <p:spPr>
            <a:xfrm rot="6273600">
              <a:off x="1223280" y="3968640"/>
              <a:ext cx="1656000" cy="865080"/>
            </a:xfrm>
            <a:custGeom>
              <a:avLst/>
              <a:gdLst>
                <a:gd name="textAreaLeft" fmla="*/ 258840 w 1656000"/>
                <a:gd name="textAreaRight" fmla="*/ 1449720 w 1656000"/>
                <a:gd name="textAreaTop" fmla="*/ 215640 h 865080"/>
                <a:gd name="textAreaBottom" fmla="*/ 64944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Rectangle 12"/>
          <p:cNvSpPr/>
          <p:nvPr/>
        </p:nvSpPr>
        <p:spPr>
          <a:xfrm>
            <a:off x="468360" y="5516640"/>
            <a:ext cx="8424720" cy="1152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3"/>
          <p:cNvSpPr/>
          <p:nvPr/>
        </p:nvSpPr>
        <p:spPr>
          <a:xfrm>
            <a:off x="611280" y="6093000"/>
            <a:ext cx="8137440" cy="0"/>
          </a:xfrm>
          <a:prstGeom prst="line">
            <a:avLst/>
          </a:prstGeom>
          <a:ln w="7632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14"/>
          <p:cNvGrpSpPr/>
          <p:nvPr/>
        </p:nvGrpSpPr>
        <p:grpSpPr>
          <a:xfrm>
            <a:off x="5508720" y="907920"/>
            <a:ext cx="3628080" cy="4179240"/>
            <a:chOff x="5508720" y="907920"/>
            <a:chExt cx="3628080" cy="4179240"/>
          </a:xfrm>
        </p:grpSpPr>
        <p:sp>
          <p:nvSpPr>
            <p:cNvPr id="401" name="Rectangle 15"/>
            <p:cNvSpPr/>
            <p:nvPr/>
          </p:nvSpPr>
          <p:spPr>
            <a:xfrm>
              <a:off x="5532480" y="907920"/>
              <a:ext cx="3503520" cy="374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Text Box 16"/>
            <p:cNvSpPr/>
            <p:nvPr/>
          </p:nvSpPr>
          <p:spPr>
            <a:xfrm>
              <a:off x="5814360" y="3774960"/>
              <a:ext cx="2936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Concessionária 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automóve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17"/>
            <p:cNvSpPr/>
            <p:nvPr/>
          </p:nvSpPr>
          <p:spPr>
            <a:xfrm>
              <a:off x="7752240" y="4627440"/>
              <a:ext cx="13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(Outorg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Group 18"/>
            <p:cNvGrpSpPr/>
            <p:nvPr/>
          </p:nvGrpSpPr>
          <p:grpSpPr>
            <a:xfrm>
              <a:off x="5580000" y="1989000"/>
              <a:ext cx="1830240" cy="1220760"/>
              <a:chOff x="5580000" y="1989000"/>
              <a:chExt cx="1830240" cy="1220760"/>
            </a:xfrm>
          </p:grpSpPr>
          <p:pic>
            <p:nvPicPr>
              <p:cNvPr id="405" name="Picture 19" descr="j0212957"/>
              <p:cNvPicPr/>
              <p:nvPr/>
            </p:nvPicPr>
            <p:blipFill>
              <a:blip r:embed="rId1"/>
              <a:stretch/>
            </p:blipFill>
            <p:spPr>
              <a:xfrm>
                <a:off x="5580000" y="2060640"/>
                <a:ext cx="1830240" cy="114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Rectangle 20"/>
              <p:cNvSpPr/>
              <p:nvPr/>
            </p:nvSpPr>
            <p:spPr>
              <a:xfrm>
                <a:off x="6270480" y="1989000"/>
                <a:ext cx="576360" cy="576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Group 21"/>
            <p:cNvGrpSpPr/>
            <p:nvPr/>
          </p:nvGrpSpPr>
          <p:grpSpPr>
            <a:xfrm>
              <a:off x="7172280" y="1492200"/>
              <a:ext cx="1830240" cy="1220760"/>
              <a:chOff x="7172280" y="1492200"/>
              <a:chExt cx="1830240" cy="1220760"/>
            </a:xfrm>
          </p:grpSpPr>
          <p:pic>
            <p:nvPicPr>
              <p:cNvPr id="408" name="Picture 22" descr="j0212957"/>
              <p:cNvPicPr/>
              <p:nvPr/>
            </p:nvPicPr>
            <p:blipFill>
              <a:blip r:embed="rId2"/>
              <a:stretch/>
            </p:blipFill>
            <p:spPr>
              <a:xfrm>
                <a:off x="7172280" y="1563840"/>
                <a:ext cx="1830240" cy="114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Rectangle 23"/>
              <p:cNvSpPr/>
              <p:nvPr/>
            </p:nvSpPr>
            <p:spPr>
              <a:xfrm>
                <a:off x="7862760" y="1492200"/>
                <a:ext cx="576360" cy="576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Group 24"/>
            <p:cNvGrpSpPr/>
            <p:nvPr/>
          </p:nvGrpSpPr>
          <p:grpSpPr>
            <a:xfrm>
              <a:off x="7020000" y="2637000"/>
              <a:ext cx="1830240" cy="1220760"/>
              <a:chOff x="7020000" y="2637000"/>
              <a:chExt cx="1830240" cy="1220760"/>
            </a:xfrm>
          </p:grpSpPr>
          <p:pic>
            <p:nvPicPr>
              <p:cNvPr id="411" name="Picture 25" descr="j0212957"/>
              <p:cNvPicPr/>
              <p:nvPr/>
            </p:nvPicPr>
            <p:blipFill>
              <a:blip r:embed="rId3"/>
              <a:stretch/>
            </p:blipFill>
            <p:spPr>
              <a:xfrm>
                <a:off x="7020000" y="2708640"/>
                <a:ext cx="1830240" cy="114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Rectangle 26"/>
              <p:cNvSpPr/>
              <p:nvPr/>
            </p:nvSpPr>
            <p:spPr>
              <a:xfrm>
                <a:off x="7710480" y="2637000"/>
                <a:ext cx="576360" cy="576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Group 27"/>
            <p:cNvGrpSpPr/>
            <p:nvPr/>
          </p:nvGrpSpPr>
          <p:grpSpPr>
            <a:xfrm>
              <a:off x="5508720" y="984240"/>
              <a:ext cx="1830240" cy="1220760"/>
              <a:chOff x="5508720" y="984240"/>
              <a:chExt cx="1830240" cy="1220760"/>
            </a:xfrm>
          </p:grpSpPr>
          <p:pic>
            <p:nvPicPr>
              <p:cNvPr id="414" name="Picture 28" descr="j0212957"/>
              <p:cNvPicPr/>
              <p:nvPr/>
            </p:nvPicPr>
            <p:blipFill>
              <a:blip r:embed="rId4"/>
              <a:stretch/>
            </p:blipFill>
            <p:spPr>
              <a:xfrm>
                <a:off x="5508720" y="1055880"/>
                <a:ext cx="1830240" cy="114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Rectangle 29"/>
              <p:cNvSpPr/>
              <p:nvPr/>
            </p:nvSpPr>
            <p:spPr>
              <a:xfrm>
                <a:off x="6199200" y="984240"/>
                <a:ext cx="576360" cy="576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6" name="Group 30"/>
          <p:cNvGrpSpPr/>
          <p:nvPr/>
        </p:nvGrpSpPr>
        <p:grpSpPr>
          <a:xfrm>
            <a:off x="3092040" y="4846680"/>
            <a:ext cx="3115800" cy="1676520"/>
            <a:chOff x="3092040" y="4846680"/>
            <a:chExt cx="3115800" cy="1676520"/>
          </a:xfrm>
        </p:grpSpPr>
        <p:pic>
          <p:nvPicPr>
            <p:cNvPr id="417" name="Picture 31" descr="j0212957"/>
            <p:cNvPicPr/>
            <p:nvPr/>
          </p:nvPicPr>
          <p:blipFill>
            <a:blip r:embed="rId5"/>
            <a:stretch/>
          </p:blipFill>
          <p:spPr>
            <a:xfrm flipH="1">
              <a:off x="3618000" y="5373720"/>
              <a:ext cx="183024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32"/>
            <p:cNvSpPr/>
            <p:nvPr/>
          </p:nvSpPr>
          <p:spPr>
            <a:xfrm flipH="1">
              <a:off x="3091680" y="4846680"/>
              <a:ext cx="3115800" cy="459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Autorização para dirig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solução Conama n.º 237/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10 - O procedimento de licenciamento ambiental obedecerá às seguintes et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§ 1º -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No procedimento de licenciamento ambiental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everá constar,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0000"/>
                </a:solidFill>
                <a:latin typeface="Times New Roman"/>
              </a:rPr>
              <a:t>obrigatoriamente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a certidão da Prefeitura Municipal, declarando que o local e o tipo de empreendimento ou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tividade estão em conformidade com a legislação aplicável ao uso e ocupação do solo e, quando for o caso, a autorização para supressão de vegetação e a </a:t>
            </a:r>
            <a:r>
              <a:rPr b="1" lang="pt-BR" sz="2800" spc="-1" strike="noStrike">
                <a:solidFill>
                  <a:srgbClr val="3333cc"/>
                </a:solidFill>
                <a:latin typeface="Times New Roman"/>
              </a:rPr>
              <a:t>outorga para o uso da águ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emitidas pelos órgãos compe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161640" y="115920"/>
            <a:ext cx="881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2. Articulação entre outorga e licencia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ambi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990720" y="2057400"/>
            <a:ext cx="3402000" cy="40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457200" y="4424400"/>
            <a:ext cx="7467480" cy="2204280"/>
            <a:chOff x="457200" y="4424400"/>
            <a:chExt cx="7467480" cy="2204280"/>
          </a:xfrm>
        </p:grpSpPr>
        <p:sp>
          <p:nvSpPr>
            <p:cNvPr id="423" name="Rectangle 4"/>
            <p:cNvSpPr/>
            <p:nvPr/>
          </p:nvSpPr>
          <p:spPr>
            <a:xfrm>
              <a:off x="457200" y="5322240"/>
              <a:ext cx="7467480" cy="130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5"/>
            <p:cNvSpPr/>
            <p:nvPr/>
          </p:nvSpPr>
          <p:spPr>
            <a:xfrm>
              <a:off x="6553800" y="6221160"/>
              <a:ext cx="12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Times New Roman"/>
                </a:rPr>
                <a:t>ESTAD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6"/>
            <p:cNvSpPr/>
            <p:nvPr/>
          </p:nvSpPr>
          <p:spPr>
            <a:xfrm>
              <a:off x="457200" y="4424400"/>
              <a:ext cx="7467480" cy="81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7"/>
            <p:cNvSpPr/>
            <p:nvPr/>
          </p:nvSpPr>
          <p:spPr>
            <a:xfrm>
              <a:off x="6705720" y="4750920"/>
              <a:ext cx="11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Times New Roman"/>
                </a:rPr>
                <a:t>FEDE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248760" y="1568160"/>
            <a:ext cx="8651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rês situ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Novos empreendiment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Empreendimentos existentes e sem licença ambient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Empreendimentos existentes e com licença ambient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Quatro articulações possí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9"/>
          <p:cNvGrpSpPr/>
          <p:nvPr/>
        </p:nvGrpSpPr>
        <p:grpSpPr>
          <a:xfrm>
            <a:off x="2446560" y="4648320"/>
            <a:ext cx="3438720" cy="459720"/>
            <a:chOff x="2446560" y="4648320"/>
            <a:chExt cx="3438720" cy="459720"/>
          </a:xfrm>
        </p:grpSpPr>
        <p:sp>
          <p:nvSpPr>
            <p:cNvPr id="429" name="Text Box 10"/>
            <p:cNvSpPr/>
            <p:nvPr/>
          </p:nvSpPr>
          <p:spPr>
            <a:xfrm>
              <a:off x="2446560" y="4648320"/>
              <a:ext cx="8391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ff"/>
                  </a:solidFill>
                  <a:latin typeface="Times New Roman"/>
                </a:rPr>
                <a:t>A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11"/>
            <p:cNvSpPr/>
            <p:nvPr/>
          </p:nvSpPr>
          <p:spPr>
            <a:xfrm>
              <a:off x="4655880" y="4648320"/>
              <a:ext cx="12294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990033"/>
                  </a:solidFill>
                  <a:latin typeface="Times New Roman"/>
                </a:rPr>
                <a:t>IBA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12"/>
          <p:cNvGrpSpPr/>
          <p:nvPr/>
        </p:nvGrpSpPr>
        <p:grpSpPr>
          <a:xfrm>
            <a:off x="576720" y="5638680"/>
            <a:ext cx="6775200" cy="459720"/>
            <a:chOff x="576720" y="5638680"/>
            <a:chExt cx="6775200" cy="459720"/>
          </a:xfrm>
        </p:grpSpPr>
        <p:sp>
          <p:nvSpPr>
            <p:cNvPr id="432" name="Text Box 13"/>
            <p:cNvSpPr/>
            <p:nvPr/>
          </p:nvSpPr>
          <p:spPr>
            <a:xfrm>
              <a:off x="576720" y="5638680"/>
              <a:ext cx="2706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ff"/>
                  </a:solidFill>
                  <a:latin typeface="Times New Roman"/>
                </a:rPr>
                <a:t>Órgão RH estadu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14"/>
            <p:cNvSpPr/>
            <p:nvPr/>
          </p:nvSpPr>
          <p:spPr>
            <a:xfrm>
              <a:off x="4595760" y="5638680"/>
              <a:ext cx="27561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990033"/>
                  </a:solidFill>
                  <a:latin typeface="Times New Roman"/>
                </a:rPr>
                <a:t>Órgão MA estadu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15"/>
          <p:cNvGrpSpPr/>
          <p:nvPr/>
        </p:nvGrpSpPr>
        <p:grpSpPr>
          <a:xfrm>
            <a:off x="3352680" y="4826160"/>
            <a:ext cx="1219320" cy="1091880"/>
            <a:chOff x="3352680" y="4826160"/>
            <a:chExt cx="1219320" cy="1091880"/>
          </a:xfrm>
        </p:grpSpPr>
        <p:sp>
          <p:nvSpPr>
            <p:cNvPr id="435" name="Line 16"/>
            <p:cNvSpPr/>
            <p:nvPr/>
          </p:nvSpPr>
          <p:spPr>
            <a:xfrm>
              <a:off x="3352680" y="48261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17"/>
            <p:cNvSpPr/>
            <p:nvPr/>
          </p:nvSpPr>
          <p:spPr>
            <a:xfrm>
              <a:off x="3352680" y="59180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18"/>
            <p:cNvSpPr/>
            <p:nvPr/>
          </p:nvSpPr>
          <p:spPr>
            <a:xfrm flipV="1">
              <a:off x="3352680" y="4876560"/>
              <a:ext cx="12193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19"/>
            <p:cNvSpPr/>
            <p:nvPr/>
          </p:nvSpPr>
          <p:spPr>
            <a:xfrm>
              <a:off x="3352680" y="4876920"/>
              <a:ext cx="12193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Text Box 20"/>
          <p:cNvSpPr/>
          <p:nvPr/>
        </p:nvSpPr>
        <p:spPr>
          <a:xfrm>
            <a:off x="161640" y="115920"/>
            <a:ext cx="881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2. Articulação entre outorga e licencia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ambi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AutoShape 2"/>
          <p:cNvSpPr/>
          <p:nvPr/>
        </p:nvSpPr>
        <p:spPr>
          <a:xfrm>
            <a:off x="184320" y="3645000"/>
            <a:ext cx="8696160" cy="2971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3"/>
          <p:cNvSpPr/>
          <p:nvPr/>
        </p:nvSpPr>
        <p:spPr>
          <a:xfrm>
            <a:off x="210960" y="762120"/>
            <a:ext cx="8722080" cy="2743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Group 4"/>
          <p:cNvGrpSpPr/>
          <p:nvPr/>
        </p:nvGrpSpPr>
        <p:grpSpPr>
          <a:xfrm>
            <a:off x="4745160" y="2039760"/>
            <a:ext cx="828360" cy="2627640"/>
            <a:chOff x="4745160" y="2039760"/>
            <a:chExt cx="828360" cy="2627640"/>
          </a:xfrm>
        </p:grpSpPr>
        <p:sp>
          <p:nvSpPr>
            <p:cNvPr id="443" name="Text Box 5"/>
            <p:cNvSpPr/>
            <p:nvPr/>
          </p:nvSpPr>
          <p:spPr>
            <a:xfrm>
              <a:off x="4745160" y="4208400"/>
              <a:ext cx="772920" cy="4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náli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Text Box 6"/>
            <p:cNvSpPr/>
            <p:nvPr/>
          </p:nvSpPr>
          <p:spPr>
            <a:xfrm>
              <a:off x="5086440" y="2349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ff"/>
                  </a:solidFill>
                  <a:latin typeface="Arial"/>
                </a:rPr>
                <a:t>Si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5" name="AutoShape 7"/>
            <p:cNvCxnSpPr>
              <a:stCxn id="446" idx="2"/>
              <a:endCxn id="443" idx="0"/>
            </p:cNvCxnSpPr>
            <p:nvPr/>
          </p:nvCxnSpPr>
          <p:spPr>
            <a:xfrm>
              <a:off x="5103360" y="2039760"/>
              <a:ext cx="28440" cy="2169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47" name="Group 8"/>
          <p:cNvGrpSpPr/>
          <p:nvPr/>
        </p:nvGrpSpPr>
        <p:grpSpPr>
          <a:xfrm>
            <a:off x="1752120" y="4013280"/>
            <a:ext cx="1482840" cy="1284480"/>
            <a:chOff x="1752120" y="4013280"/>
            <a:chExt cx="1482840" cy="1284480"/>
          </a:xfrm>
        </p:grpSpPr>
        <p:grpSp>
          <p:nvGrpSpPr>
            <p:cNvPr id="448" name="Group 9"/>
            <p:cNvGrpSpPr/>
            <p:nvPr/>
          </p:nvGrpSpPr>
          <p:grpSpPr>
            <a:xfrm>
              <a:off x="2039400" y="4013280"/>
              <a:ext cx="1195560" cy="1284480"/>
              <a:chOff x="2039400" y="4013280"/>
              <a:chExt cx="1195560" cy="1284480"/>
            </a:xfrm>
          </p:grpSpPr>
          <p:sp>
            <p:nvSpPr>
              <p:cNvPr id="449" name="AutoShape 10"/>
              <p:cNvSpPr/>
              <p:nvPr/>
            </p:nvSpPr>
            <p:spPr>
              <a:xfrm>
                <a:off x="2039400" y="4013280"/>
                <a:ext cx="1195560" cy="1284480"/>
              </a:xfrm>
              <a:prstGeom prst="flowChartDecis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11"/>
              <p:cNvSpPr/>
              <p:nvPr/>
            </p:nvSpPr>
            <p:spPr>
              <a:xfrm>
                <a:off x="2128680" y="4389120"/>
                <a:ext cx="999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missão da OP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51" name="AutoShape 12"/>
            <p:cNvCxnSpPr>
              <a:stCxn id="452" idx="3"/>
              <a:endCxn id="449" idx="1"/>
            </p:cNvCxnSpPr>
            <p:nvPr/>
          </p:nvCxnSpPr>
          <p:spPr>
            <a:xfrm>
              <a:off x="1752120" y="4613400"/>
              <a:ext cx="2876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53" name="Group 13"/>
          <p:cNvGrpSpPr/>
          <p:nvPr/>
        </p:nvGrpSpPr>
        <p:grpSpPr>
          <a:xfrm>
            <a:off x="1481040" y="1066680"/>
            <a:ext cx="1830240" cy="2982240"/>
            <a:chOff x="1481040" y="1066680"/>
            <a:chExt cx="1830240" cy="2982240"/>
          </a:xfrm>
        </p:grpSpPr>
        <p:sp>
          <p:nvSpPr>
            <p:cNvPr id="454" name="Text Box 14"/>
            <p:cNvSpPr/>
            <p:nvPr/>
          </p:nvSpPr>
          <p:spPr>
            <a:xfrm>
              <a:off x="1969200" y="1066680"/>
              <a:ext cx="1342080" cy="82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ntrega de documentação para análise do Órgão Ambien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15"/>
            <p:cNvSpPr/>
            <p:nvPr/>
          </p:nvSpPr>
          <p:spPr>
            <a:xfrm>
              <a:off x="2568960" y="374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ff"/>
                  </a:solidFill>
                  <a:latin typeface="Arial"/>
                </a:rPr>
                <a:t>Si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6" name="AutoShape 16"/>
            <p:cNvCxnSpPr>
              <a:endCxn id="454" idx="1"/>
            </p:cNvCxnSpPr>
            <p:nvPr/>
          </p:nvCxnSpPr>
          <p:spPr>
            <a:xfrm>
              <a:off x="1481040" y="1483920"/>
              <a:ext cx="4888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7" name="AutoShape 17"/>
            <p:cNvCxnSpPr>
              <a:stCxn id="449" idx="0"/>
              <a:endCxn id="454" idx="2"/>
            </p:cNvCxnSpPr>
            <p:nvPr/>
          </p:nvCxnSpPr>
          <p:spPr>
            <a:xfrm flipV="1">
              <a:off x="2637000" y="1901160"/>
              <a:ext cx="3240" cy="2112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58" name="Group 18"/>
          <p:cNvGrpSpPr/>
          <p:nvPr/>
        </p:nvGrpSpPr>
        <p:grpSpPr>
          <a:xfrm>
            <a:off x="5518080" y="3809880"/>
            <a:ext cx="1312560" cy="1284840"/>
            <a:chOff x="5518080" y="3809880"/>
            <a:chExt cx="1312560" cy="1284840"/>
          </a:xfrm>
        </p:grpSpPr>
        <p:grpSp>
          <p:nvGrpSpPr>
            <p:cNvPr id="459" name="Group 19"/>
            <p:cNvGrpSpPr/>
            <p:nvPr/>
          </p:nvGrpSpPr>
          <p:grpSpPr>
            <a:xfrm>
              <a:off x="5705280" y="3809880"/>
              <a:ext cx="1125360" cy="1284840"/>
              <a:chOff x="5705280" y="3809880"/>
              <a:chExt cx="1125360" cy="1284840"/>
            </a:xfrm>
          </p:grpSpPr>
          <p:sp>
            <p:nvSpPr>
              <p:cNvPr id="460" name="AutoShape 20"/>
              <p:cNvSpPr/>
              <p:nvPr/>
            </p:nvSpPr>
            <p:spPr>
              <a:xfrm>
                <a:off x="5705280" y="3809880"/>
                <a:ext cx="1125360" cy="1284840"/>
              </a:xfrm>
              <a:prstGeom prst="flowChartDecis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Text Box 21"/>
              <p:cNvSpPr/>
              <p:nvPr/>
            </p:nvSpPr>
            <p:spPr>
              <a:xfrm>
                <a:off x="5793120" y="4201920"/>
                <a:ext cx="9990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ode alterar a OP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62" name="AutoShape 22"/>
            <p:cNvCxnSpPr>
              <a:stCxn id="443" idx="3"/>
              <a:endCxn id="460" idx="1"/>
            </p:cNvCxnSpPr>
            <p:nvPr/>
          </p:nvCxnSpPr>
          <p:spPr>
            <a:xfrm flipV="1">
              <a:off x="5518080" y="4410720"/>
              <a:ext cx="18792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63" name="Group 23"/>
          <p:cNvGrpSpPr/>
          <p:nvPr/>
        </p:nvGrpSpPr>
        <p:grpSpPr>
          <a:xfrm>
            <a:off x="3931200" y="5245200"/>
            <a:ext cx="1894680" cy="1252080"/>
            <a:chOff x="3931200" y="5245200"/>
            <a:chExt cx="1894680" cy="1252080"/>
          </a:xfrm>
        </p:grpSpPr>
        <p:sp>
          <p:nvSpPr>
            <p:cNvPr id="464" name="Text Box 24"/>
            <p:cNvSpPr/>
            <p:nvPr/>
          </p:nvSpPr>
          <p:spPr>
            <a:xfrm>
              <a:off x="3931200" y="548316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N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5" name="AutoShape 25"/>
            <p:cNvCxnSpPr>
              <a:stCxn id="466" idx="3"/>
              <a:endCxn id="467" idx="1"/>
            </p:cNvCxnSpPr>
            <p:nvPr/>
          </p:nvCxnSpPr>
          <p:spPr>
            <a:xfrm flipV="1">
              <a:off x="3974040" y="5752440"/>
              <a:ext cx="446040" cy="5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7" name="AutoShape 26"/>
            <p:cNvSpPr/>
            <p:nvPr/>
          </p:nvSpPr>
          <p:spPr>
            <a:xfrm>
              <a:off x="4419720" y="5245200"/>
              <a:ext cx="1406160" cy="1252080"/>
            </a:xfrm>
            <a:prstGeom prst="flowChartDocument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INDEFER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nformar 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ao Órgão Ambiental</a:t>
              </a: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Text Box 27"/>
          <p:cNvSpPr/>
          <p:nvPr/>
        </p:nvSpPr>
        <p:spPr>
          <a:xfrm rot="16200000">
            <a:off x="-505080" y="201420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6666"/>
                </a:solidFill>
                <a:latin typeface="Times New Roman"/>
              </a:rPr>
              <a:t>ÓRGÃO AMBI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28"/>
          <p:cNvSpPr/>
          <p:nvPr/>
        </p:nvSpPr>
        <p:spPr>
          <a:xfrm rot="16200000">
            <a:off x="-943560" y="5035680"/>
            <a:ext cx="268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ff"/>
                </a:solidFill>
                <a:latin typeface="Times New Roman"/>
              </a:rPr>
              <a:t>ÓRGÃO DE RECURSOS HÍDR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29"/>
          <p:cNvGrpSpPr/>
          <p:nvPr/>
        </p:nvGrpSpPr>
        <p:grpSpPr>
          <a:xfrm>
            <a:off x="2208960" y="5146560"/>
            <a:ext cx="1764360" cy="1294200"/>
            <a:chOff x="2208960" y="5146560"/>
            <a:chExt cx="1764360" cy="1294200"/>
          </a:xfrm>
        </p:grpSpPr>
        <p:grpSp>
          <p:nvGrpSpPr>
            <p:cNvPr id="471" name="Group 30"/>
            <p:cNvGrpSpPr/>
            <p:nvPr/>
          </p:nvGrpSpPr>
          <p:grpSpPr>
            <a:xfrm>
              <a:off x="2848320" y="5156280"/>
              <a:ext cx="1125000" cy="1284480"/>
              <a:chOff x="2848320" y="5156280"/>
              <a:chExt cx="1125000" cy="1284480"/>
            </a:xfrm>
          </p:grpSpPr>
          <p:sp>
            <p:nvSpPr>
              <p:cNvPr id="466" name="AutoShape 31"/>
              <p:cNvSpPr/>
              <p:nvPr/>
            </p:nvSpPr>
            <p:spPr>
              <a:xfrm>
                <a:off x="2848320" y="5156280"/>
                <a:ext cx="1125000" cy="1284480"/>
              </a:xfrm>
              <a:prstGeom prst="flowChartDecis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Text Box 32"/>
              <p:cNvSpPr/>
              <p:nvPr/>
            </p:nvSpPr>
            <p:spPr>
              <a:xfrm>
                <a:off x="2936160" y="5547960"/>
                <a:ext cx="998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assível de alteração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73" name="AutoShape 33"/>
            <p:cNvCxnSpPr>
              <a:stCxn id="449" idx="2"/>
              <a:endCxn id="466" idx="1"/>
            </p:cNvCxnSpPr>
            <p:nvPr/>
          </p:nvCxnSpPr>
          <p:spPr>
            <a:xfrm flipH="1" rot="16200000">
              <a:off x="2472120" y="5381280"/>
              <a:ext cx="542160" cy="211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4" name="Text Box 34"/>
            <p:cNvSpPr/>
            <p:nvPr/>
          </p:nvSpPr>
          <p:spPr>
            <a:xfrm>
              <a:off x="2208960" y="514656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N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Text Box 35"/>
          <p:cNvSpPr/>
          <p:nvPr/>
        </p:nvSpPr>
        <p:spPr>
          <a:xfrm>
            <a:off x="1049040" y="131760"/>
            <a:ext cx="72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ULAÇÃO ENTRE A OUTORGA E O LICENCIAMENT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vos Empreendimentos sujeitos a estud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Group 36"/>
          <p:cNvGrpSpPr/>
          <p:nvPr/>
        </p:nvGrpSpPr>
        <p:grpSpPr>
          <a:xfrm>
            <a:off x="561960" y="3068640"/>
            <a:ext cx="1190520" cy="2017440"/>
            <a:chOff x="561960" y="3068640"/>
            <a:chExt cx="1190520" cy="2017440"/>
          </a:xfrm>
        </p:grpSpPr>
        <p:sp>
          <p:nvSpPr>
            <p:cNvPr id="452" name="AutoShape 37"/>
            <p:cNvSpPr/>
            <p:nvPr/>
          </p:nvSpPr>
          <p:spPr>
            <a:xfrm>
              <a:off x="561960" y="4152960"/>
              <a:ext cx="1190520" cy="9331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Solicitação de Outorg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Preventiva (OP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38"/>
            <p:cNvSpPr/>
            <p:nvPr/>
          </p:nvSpPr>
          <p:spPr>
            <a:xfrm>
              <a:off x="783360" y="3068640"/>
              <a:ext cx="332640" cy="10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Group 39"/>
          <p:cNvGrpSpPr/>
          <p:nvPr/>
        </p:nvGrpSpPr>
        <p:grpSpPr>
          <a:xfrm>
            <a:off x="2638440" y="1901520"/>
            <a:ext cx="1179000" cy="3266640"/>
            <a:chOff x="2638440" y="1901520"/>
            <a:chExt cx="1179000" cy="3266640"/>
          </a:xfrm>
        </p:grpSpPr>
        <p:grpSp>
          <p:nvGrpSpPr>
            <p:cNvPr id="479" name="Group 40"/>
            <p:cNvGrpSpPr/>
            <p:nvPr/>
          </p:nvGrpSpPr>
          <p:grpSpPr>
            <a:xfrm>
              <a:off x="2638800" y="1901520"/>
              <a:ext cx="1178640" cy="3266640"/>
              <a:chOff x="2638800" y="1901520"/>
              <a:chExt cx="1178640" cy="3266640"/>
            </a:xfrm>
          </p:grpSpPr>
          <p:cxnSp>
            <p:nvCxnSpPr>
              <p:cNvPr id="480" name="AutoShape 41"/>
              <p:cNvCxnSpPr>
                <a:stCxn id="466" idx="0"/>
                <a:endCxn id="454" idx="2"/>
              </p:cNvCxnSpPr>
              <p:nvPr/>
            </p:nvCxnSpPr>
            <p:spPr>
              <a:xfrm flipV="1" rot="16200000">
                <a:off x="1397160" y="3143160"/>
                <a:ext cx="3255120" cy="771480"/>
              </a:xfrm>
              <a:prstGeom prst="bentConnector3">
                <a:avLst>
                  <a:gd name="adj1" fmla="val 49994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81" name="Text Box 42"/>
              <p:cNvSpPr/>
              <p:nvPr/>
            </p:nvSpPr>
            <p:spPr>
              <a:xfrm>
                <a:off x="3330360" y="486108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ff"/>
                    </a:solidFill>
                    <a:latin typeface="Arial"/>
                  </a:rPr>
                  <a:t>Si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Line 43"/>
            <p:cNvSpPr/>
            <p:nvPr/>
          </p:nvSpPr>
          <p:spPr>
            <a:xfrm flipH="1">
              <a:off x="2638440" y="35272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Group 44"/>
          <p:cNvGrpSpPr/>
          <p:nvPr/>
        </p:nvGrpSpPr>
        <p:grpSpPr>
          <a:xfrm>
            <a:off x="452520" y="1066680"/>
            <a:ext cx="2312640" cy="3006360"/>
            <a:chOff x="452520" y="1066680"/>
            <a:chExt cx="2312640" cy="3006360"/>
          </a:xfrm>
        </p:grpSpPr>
        <p:sp>
          <p:nvSpPr>
            <p:cNvPr id="484" name="Text Box 45"/>
            <p:cNvSpPr/>
            <p:nvPr/>
          </p:nvSpPr>
          <p:spPr>
            <a:xfrm>
              <a:off x="491760" y="1066680"/>
              <a:ext cx="987840" cy="824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Início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TR do Órgão Ambien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46"/>
            <p:cNvSpPr/>
            <p:nvPr/>
          </p:nvSpPr>
          <p:spPr>
            <a:xfrm rot="16200000">
              <a:off x="-284400" y="2936880"/>
              <a:ext cx="18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USUÁ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47"/>
            <p:cNvSpPr/>
            <p:nvPr/>
          </p:nvSpPr>
          <p:spPr>
            <a:xfrm flipV="1">
              <a:off x="782280" y="1906560"/>
              <a:ext cx="177120" cy="11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48"/>
            <p:cNvSpPr/>
            <p:nvPr/>
          </p:nvSpPr>
          <p:spPr>
            <a:xfrm>
              <a:off x="944640" y="1881360"/>
              <a:ext cx="1820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Exigênci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imes New Roman"/>
                </a:rPr>
                <a:t>Outorga Preventiva (OP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pt-BR" sz="1200" spc="-1" strike="noStrike">
                  <a:solidFill>
                    <a:srgbClr val="000000"/>
                  </a:solidFill>
                  <a:latin typeface="Times New Roman"/>
                </a:rPr>
                <a:t>ou Manifestação Prév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49"/>
          <p:cNvGrpSpPr/>
          <p:nvPr/>
        </p:nvGrpSpPr>
        <p:grpSpPr>
          <a:xfrm>
            <a:off x="6705720" y="1440000"/>
            <a:ext cx="1960200" cy="3678120"/>
            <a:chOff x="6705720" y="1440000"/>
            <a:chExt cx="1960200" cy="3678120"/>
          </a:xfrm>
        </p:grpSpPr>
        <p:sp>
          <p:nvSpPr>
            <p:cNvPr id="489" name="Text Box 50"/>
            <p:cNvSpPr/>
            <p:nvPr/>
          </p:nvSpPr>
          <p:spPr>
            <a:xfrm>
              <a:off x="7417800" y="3929040"/>
              <a:ext cx="1248120" cy="11890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Outorga defini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Quando da solicit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a LO ou da LI, se necessá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AutoShape 51"/>
            <p:cNvSpPr/>
            <p:nvPr/>
          </p:nvSpPr>
          <p:spPr>
            <a:xfrm>
              <a:off x="6705720" y="2289240"/>
              <a:ext cx="1490040" cy="88956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omunic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o Órgão de Recursos Hídr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AutoShape 52"/>
            <p:cNvCxnSpPr/>
            <p:nvPr/>
          </p:nvCxnSpPr>
          <p:spPr>
            <a:xfrm>
              <a:off x="8201520" y="2657520"/>
              <a:ext cx="136800" cy="1271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2" name="Line 53"/>
            <p:cNvSpPr/>
            <p:nvPr/>
          </p:nvSpPr>
          <p:spPr>
            <a:xfrm>
              <a:off x="7482240" y="1440000"/>
              <a:ext cx="17280" cy="85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54"/>
          <p:cNvGrpSpPr/>
          <p:nvPr/>
        </p:nvGrpSpPr>
        <p:grpSpPr>
          <a:xfrm>
            <a:off x="3308400" y="836640"/>
            <a:ext cx="2393640" cy="1284480"/>
            <a:chOff x="3308400" y="836640"/>
            <a:chExt cx="2393640" cy="1284480"/>
          </a:xfrm>
        </p:grpSpPr>
        <p:sp>
          <p:nvSpPr>
            <p:cNvPr id="494" name="Text Box 55"/>
            <p:cNvSpPr/>
            <p:nvPr/>
          </p:nvSpPr>
          <p:spPr>
            <a:xfrm>
              <a:off x="4614480" y="1125360"/>
              <a:ext cx="9997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umenta a demanda sobre os RH?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5" name="Group 56"/>
            <p:cNvGrpSpPr/>
            <p:nvPr/>
          </p:nvGrpSpPr>
          <p:grpSpPr>
            <a:xfrm>
              <a:off x="3308400" y="836640"/>
              <a:ext cx="2393640" cy="1284480"/>
              <a:chOff x="3308400" y="836640"/>
              <a:chExt cx="2393640" cy="1284480"/>
            </a:xfrm>
          </p:grpSpPr>
          <p:sp>
            <p:nvSpPr>
              <p:cNvPr id="496" name="Text Box 57"/>
              <p:cNvSpPr/>
              <p:nvPr/>
            </p:nvSpPr>
            <p:spPr>
              <a:xfrm>
                <a:off x="3641040" y="1303200"/>
                <a:ext cx="495360" cy="27648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AutoShape 58"/>
              <p:cNvSpPr/>
              <p:nvPr/>
            </p:nvSpPr>
            <p:spPr>
              <a:xfrm>
                <a:off x="4506120" y="836640"/>
                <a:ext cx="1195920" cy="1284480"/>
              </a:xfrm>
              <a:prstGeom prst="flowChartDecis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Line 59"/>
              <p:cNvSpPr/>
              <p:nvPr/>
            </p:nvSpPr>
            <p:spPr>
              <a:xfrm>
                <a:off x="4126320" y="1433520"/>
                <a:ext cx="39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Line 60"/>
              <p:cNvSpPr/>
              <p:nvPr/>
            </p:nvSpPr>
            <p:spPr>
              <a:xfrm>
                <a:off x="3308400" y="1438200"/>
                <a:ext cx="33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9" name="Group 61"/>
          <p:cNvGrpSpPr/>
          <p:nvPr/>
        </p:nvGrpSpPr>
        <p:grpSpPr>
          <a:xfrm>
            <a:off x="5954760" y="4076640"/>
            <a:ext cx="2660760" cy="2283120"/>
            <a:chOff x="5954760" y="4076640"/>
            <a:chExt cx="2660760" cy="2283120"/>
          </a:xfrm>
        </p:grpSpPr>
        <p:grpSp>
          <p:nvGrpSpPr>
            <p:cNvPr id="500" name="Group 62"/>
            <p:cNvGrpSpPr/>
            <p:nvPr/>
          </p:nvGrpSpPr>
          <p:grpSpPr>
            <a:xfrm>
              <a:off x="5954760" y="4076640"/>
              <a:ext cx="2660760" cy="2283120"/>
              <a:chOff x="5954760" y="4076640"/>
              <a:chExt cx="2660760" cy="2283120"/>
            </a:xfrm>
          </p:grpSpPr>
          <p:sp>
            <p:nvSpPr>
              <p:cNvPr id="501" name="Text Box 63"/>
              <p:cNvSpPr/>
              <p:nvPr/>
            </p:nvSpPr>
            <p:spPr>
              <a:xfrm>
                <a:off x="6813360" y="4076640"/>
                <a:ext cx="50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Nã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02" name="AutoShape 64"/>
              <p:cNvCxnSpPr/>
              <p:nvPr/>
            </p:nvCxnSpPr>
            <p:spPr>
              <a:xfrm flipH="1">
                <a:off x="7273440" y="4438440"/>
                <a:ext cx="1080" cy="12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03" name="Text Box 65"/>
              <p:cNvSpPr/>
              <p:nvPr/>
            </p:nvSpPr>
            <p:spPr>
              <a:xfrm>
                <a:off x="5954760" y="5718240"/>
                <a:ext cx="2660760" cy="641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ff"/>
                    </a:solidFill>
                    <a:latin typeface="Arial"/>
                  </a:rPr>
                  <a:t>Negociação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 u="sng">
                    <a:solidFill>
                      <a:srgbClr val="0000ff"/>
                    </a:solidFill>
                    <a:uFillTx/>
                    <a:latin typeface="Arial"/>
                  </a:rPr>
                  <a:t>Órgão de RH – Órgão Ambiental – Usuár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Line 66"/>
            <p:cNvSpPr/>
            <p:nvPr/>
          </p:nvSpPr>
          <p:spPr>
            <a:xfrm flipH="1">
              <a:off x="6831000" y="4432320"/>
              <a:ext cx="4424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Group 67"/>
          <p:cNvGrpSpPr/>
          <p:nvPr/>
        </p:nvGrpSpPr>
        <p:grpSpPr>
          <a:xfrm>
            <a:off x="5644080" y="1189080"/>
            <a:ext cx="2844000" cy="376560"/>
            <a:chOff x="5644080" y="1189080"/>
            <a:chExt cx="2844000" cy="376560"/>
          </a:xfrm>
        </p:grpSpPr>
        <p:sp>
          <p:nvSpPr>
            <p:cNvPr id="506" name="Text Box 68"/>
            <p:cNvSpPr/>
            <p:nvPr/>
          </p:nvSpPr>
          <p:spPr>
            <a:xfrm>
              <a:off x="6630480" y="1289160"/>
              <a:ext cx="494640" cy="276480"/>
            </a:xfrm>
            <a:prstGeom prst="rect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L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69"/>
            <p:cNvSpPr/>
            <p:nvPr/>
          </p:nvSpPr>
          <p:spPr>
            <a:xfrm>
              <a:off x="7993080" y="1289160"/>
              <a:ext cx="495000" cy="276480"/>
            </a:xfrm>
            <a:prstGeom prst="rect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8" name="AutoShape 70"/>
            <p:cNvCxnSpPr>
              <a:stCxn id="506" idx="3"/>
              <a:endCxn id="507" idx="1"/>
            </p:cNvCxnSpPr>
            <p:nvPr/>
          </p:nvCxnSpPr>
          <p:spPr>
            <a:xfrm>
              <a:off x="7125120" y="1433160"/>
              <a:ext cx="8679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9" name="Text Box 71"/>
            <p:cNvSpPr/>
            <p:nvPr/>
          </p:nvSpPr>
          <p:spPr>
            <a:xfrm>
              <a:off x="5644080" y="118908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N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72"/>
            <p:cNvSpPr/>
            <p:nvPr/>
          </p:nvSpPr>
          <p:spPr>
            <a:xfrm>
              <a:off x="5701680" y="1438200"/>
              <a:ext cx="92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Group 73"/>
          <p:cNvGrpSpPr/>
          <p:nvPr/>
        </p:nvGrpSpPr>
        <p:grpSpPr>
          <a:xfrm>
            <a:off x="6206400" y="1437840"/>
            <a:ext cx="487080" cy="2397240"/>
            <a:chOff x="6206400" y="1437840"/>
            <a:chExt cx="487080" cy="2397240"/>
          </a:xfrm>
        </p:grpSpPr>
        <p:sp>
          <p:nvSpPr>
            <p:cNvPr id="512" name="Line 74"/>
            <p:cNvSpPr/>
            <p:nvPr/>
          </p:nvSpPr>
          <p:spPr>
            <a:xfrm flipV="1">
              <a:off x="6266880" y="1437840"/>
              <a:ext cx="8640" cy="239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Text Box 75"/>
            <p:cNvSpPr/>
            <p:nvPr/>
          </p:nvSpPr>
          <p:spPr>
            <a:xfrm>
              <a:off x="6206400" y="3068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ff"/>
                  </a:solidFill>
                  <a:latin typeface="Arial"/>
                </a:rPr>
                <a:t>Si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1258920" y="2682720"/>
            <a:ext cx="66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3. Lançamento de eflu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179280" y="909720"/>
            <a:ext cx="87854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3. Lançamento de eflu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6600"/>
                </a:solidFill>
                <a:latin typeface="Times New Roman"/>
              </a:rPr>
              <a:t>Licenciamento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autoriza o lançamento, o ato físico de lançar (baseado em padrões de efluentes)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Times New Roman"/>
              </a:rPr>
              <a:t>Outorga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autoriza o uso dos recursos hídricos (respeito ao enquadramento); o direito de us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ais parâmetros outorg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ó os depuráveis? Só os que podem ser diluí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3. Lançamento de eflu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solução ANA n.º 219/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1º Tornar público que a Diretoria Colegiada, em sua 164ª Reunião Ordinária......, decidiu que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nálise técnica para emissão de outorg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e direito de uso de recursos hídricos para fins de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ançamento de efluente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m cursos d’água de domínio da União, a Superintendência de Outorga e Cobrança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omente avaliará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os parâmetros relativos à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à Demanda Bioquímica de Oxigênio –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, em locais sujeitos à eutrofização, ao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Fósfor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ou ao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Nitrogêni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-98640" y="836280"/>
            <a:ext cx="9242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Lei 9.433/97, Art. 12. Estão sujeitos a outorga pelo Poder Público os direitos dos seguintes </a:t>
            </a:r>
            <a:r>
              <a:rPr b="1" lang="pt-BR" sz="2600" spc="-1" strike="noStrike" u="sng">
                <a:solidFill>
                  <a:srgbClr val="000000"/>
                </a:solidFill>
                <a:uFillTx/>
                <a:latin typeface="Times New Roman"/>
              </a:rPr>
              <a:t>usos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 de recursos hídricos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2b2b2"/>
                </a:solidFill>
                <a:latin typeface="Times New Roman"/>
              </a:rPr>
              <a:t>I - derivação ou captação de parcela da água existente em um corpo de água para consumo final, inclusive abastecimento público, ou insumo de processo produtiv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2b2b2"/>
                </a:solidFill>
                <a:latin typeface="Times New Roman"/>
              </a:rPr>
              <a:t>II - extração de água de aqüífero subterrâneo para consumo final ou insumo de processo produtiv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III - </a:t>
            </a:r>
            <a:r>
              <a:rPr b="1" lang="pt-BR" sz="2200" spc="-1" strike="noStrike" u="sng">
                <a:solidFill>
                  <a:srgbClr val="000000"/>
                </a:solidFill>
                <a:uFillTx/>
                <a:latin typeface="Times New Roman"/>
              </a:rPr>
              <a:t>lançamento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 em corpo de água de esgotos e demais resíduos líquidos ou gasosos, tratados ou não, com o fim de sua </a:t>
            </a:r>
            <a:r>
              <a:rPr b="1" lang="pt-BR" sz="2200" spc="-1" strike="noStrike" u="sng">
                <a:solidFill>
                  <a:srgbClr val="000000"/>
                </a:solidFill>
                <a:uFillTx/>
                <a:latin typeface="Times New Roman"/>
              </a:rPr>
              <a:t>diluição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, transporte ou disposição final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2b2b2"/>
                </a:solidFill>
                <a:latin typeface="Times New Roman"/>
              </a:rPr>
              <a:t>IV - aproveitamento dos potenciais hidrelétrico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2b2b2"/>
                </a:solidFill>
                <a:latin typeface="Times New Roman"/>
              </a:rPr>
              <a:t>V - outros usos que alterem o regime, a quantidade ou a qualidade da água existente em um corpo de águ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4000" y="115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3. Lançamento de eflu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4"/>
          <p:cNvSpPr/>
          <p:nvPr/>
        </p:nvSpPr>
        <p:spPr>
          <a:xfrm>
            <a:off x="5651640" y="1700280"/>
            <a:ext cx="936360" cy="23763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669960" y="4486320"/>
            <a:ext cx="8335800" cy="1065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4560" y="43920"/>
            <a:ext cx="878508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ei n.º 9.433/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aticamente, 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sem preocupações ambien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ão dispõe sobre vazões ecológicas, fluxo de sedimentos ou nutrientes, água para preservação ambiental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ão há prioridade para fins ambientais (Art. 1º - “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em situações de escassez, o uso prioritário dos recursos hídricos é o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sumo humano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 e a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sedentação de animai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15, IV suspende outorgas para “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prevenir ou reverter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Times New Roman"/>
              </a:rPr>
              <a:t>grave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 degradação ambiental”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ORÉM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3º, III – Diretrizes: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integração da gestão de recursos hídricos com a gestão ambiental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Lei reconhece que a gestão de recursos hídricos e a gestão ambiental pertencem 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áreas distinta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vem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passar por um processo de integ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ular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Integ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icular = Ligar; juntar; unir por meio de articulaçõ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ntegrar = Tornar inteiro, uno; completar; unificar; fazer parte de um todo; adaptar; acomo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-98640" y="764640"/>
            <a:ext cx="924228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3. Lançam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Lei 9.433/97, Art. 13 “</a:t>
            </a:r>
            <a:r>
              <a:rPr b="1" lang="pt-BR" sz="3000" spc="-1" strike="noStrike">
                <a:solidFill>
                  <a:srgbClr val="ff0000"/>
                </a:solidFill>
                <a:latin typeface="Times New Roman"/>
              </a:rPr>
              <a:t>Toda outorga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 estará</a:t>
            </a:r>
            <a:r>
              <a:rPr b="0" lang="pt-BR" sz="3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condicionada</a:t>
            </a:r>
            <a:r>
              <a:rPr b="0" lang="pt-BR" sz="3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às prioridades de uso estabelecidas nos</a:t>
            </a:r>
            <a:r>
              <a:rPr b="0" lang="pt-BR" sz="3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Planos</a:t>
            </a:r>
            <a:r>
              <a:rPr b="0" lang="pt-BR" sz="3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de Recursos Hídricos e </a:t>
            </a:r>
            <a:r>
              <a:rPr b="1" lang="pt-BR" sz="3000" spc="-1" strike="noStrike">
                <a:solidFill>
                  <a:srgbClr val="ff0000"/>
                </a:solidFill>
                <a:latin typeface="Times New Roman"/>
              </a:rPr>
              <a:t>deverá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3000" spc="-1" strike="noStrike">
                <a:solidFill>
                  <a:srgbClr val="ff0000"/>
                </a:solidFill>
                <a:latin typeface="Times New Roman"/>
              </a:rPr>
              <a:t>respeitar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3000" spc="-1" strike="noStrike">
                <a:solidFill>
                  <a:srgbClr val="ff0000"/>
                </a:solidFill>
                <a:latin typeface="Times New Roman"/>
              </a:rPr>
              <a:t>a classe em que o corpo hídrico estiver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3000" spc="-1" strike="noStrike">
                <a:solidFill>
                  <a:srgbClr val="ff0000"/>
                </a:solidFill>
                <a:latin typeface="Times New Roman"/>
              </a:rPr>
              <a:t>enquadrado</a:t>
            </a: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e a manutenção de condições adequadas ao transporte aquaviário</a:t>
            </a:r>
            <a:r>
              <a:rPr b="0" lang="pt-BR" sz="3000" spc="-1" strike="noStrike">
                <a:solidFill>
                  <a:srgbClr val="996633"/>
                </a:solidFill>
                <a:latin typeface="Times New Roman"/>
              </a:rPr>
              <a:t>, 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quando for o caso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2"/>
          <p:cNvSpPr/>
          <p:nvPr/>
        </p:nvSpPr>
        <p:spPr>
          <a:xfrm>
            <a:off x="287280" y="327420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r" pos="5754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 que é enquadramento dos corpos d’águ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5219640" y="2276640"/>
            <a:ext cx="3889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O rio que quer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2338560" y="4076640"/>
            <a:ext cx="46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O rio que podemos 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4"/>
          <p:cNvSpPr/>
          <p:nvPr/>
        </p:nvSpPr>
        <p:spPr>
          <a:xfrm flipV="1">
            <a:off x="3564000" y="2204280"/>
            <a:ext cx="1512720" cy="1584360"/>
          </a:xfrm>
          <a:custGeom>
            <a:avLst/>
            <a:gdLst>
              <a:gd name="textAreaLeft" fmla="*/ 151200 w 1512720"/>
              <a:gd name="textAreaRight" fmla="*/ 1361520 w 1512720"/>
              <a:gd name="textAreaTop" fmla="*/ 905040 h 1584360"/>
              <a:gd name="textAreaBottom" fmla="*/ 1357920 h 1584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179280" y="534816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Necessidade de participação social, integração e articulação entre os at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eve ser considerada a dimensão social, econômica, financeira e técnica das intervenções e dos investi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125280" y="2176560"/>
            <a:ext cx="30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0000"/>
                </a:solidFill>
                <a:latin typeface="Arial"/>
                <a:ea typeface="Arial"/>
              </a:rPr>
              <a:t>O rio que t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2122560" y="404640"/>
            <a:ext cx="53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s 3 rios do enquad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615240" y="27813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ndição a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9"/>
          <p:cNvSpPr/>
          <p:nvPr/>
        </p:nvSpPr>
        <p:spPr>
          <a:xfrm>
            <a:off x="6519240" y="28526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Vont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10"/>
          <p:cNvSpPr/>
          <p:nvPr/>
        </p:nvSpPr>
        <p:spPr>
          <a:xfrm>
            <a:off x="2348280" y="458136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Limitações (técnicas, econômica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1"/>
          <p:cNvSpPr/>
          <p:nvPr/>
        </p:nvSpPr>
        <p:spPr>
          <a:xfrm>
            <a:off x="6256800" y="6508800"/>
            <a:ext cx="285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onte: Marcelo Pires (ANA, 200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08000" y="1303200"/>
            <a:ext cx="897408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nquadramento é o estabelecimento da </a:t>
            </a:r>
            <a:r>
              <a:rPr b="1" lang="pt-BR" sz="2400" spc="-1" strike="noStrike">
                <a:solidFill>
                  <a:srgbClr val="ff5050"/>
                </a:solidFill>
                <a:latin typeface="Arial"/>
                <a:ea typeface="Arial"/>
              </a:rPr>
              <a:t>met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ou objetivo de qualidade da água (classe) a ser, obrigatoriamente, alcançado ou mantido em um segmento de corpo d’água, de acordo com os usos preponderantes pretendidos, ao longo do t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Arial"/>
              </a:rPr>
              <a:t>Resolução CONAMA nº 357/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256800" y="6508800"/>
            <a:ext cx="285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onte: Marcelo Pires (ANA, 200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5420520" y="457200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Irrig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5388840" y="3124080"/>
            <a:ext cx="197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Dessedent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de anim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4" descr="dourados em bonito"/>
          <p:cNvPicPr/>
          <p:nvPr/>
        </p:nvPicPr>
        <p:blipFill>
          <a:blip r:embed="rId1"/>
          <a:stretch/>
        </p:blipFill>
        <p:spPr>
          <a:xfrm>
            <a:off x="3494160" y="0"/>
            <a:ext cx="1981080" cy="131436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5"/>
          <p:cNvSpPr/>
          <p:nvPr/>
        </p:nvSpPr>
        <p:spPr>
          <a:xfrm>
            <a:off x="5508720" y="4046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Proteção das comunida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aquá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5353920" y="1752480"/>
            <a:ext cx="19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Abasteci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domé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5483520" y="59436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Naveg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8" descr=""/>
          <p:cNvPicPr/>
          <p:nvPr/>
        </p:nvPicPr>
        <p:blipFill>
          <a:blip r:embed="rId2"/>
          <a:srcRect l="19147" t="11460" r="0" b="18408"/>
          <a:stretch/>
        </p:blipFill>
        <p:spPr>
          <a:xfrm>
            <a:off x="3494160" y="5554800"/>
            <a:ext cx="1981080" cy="130320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9"/>
          <p:cNvSpPr/>
          <p:nvPr/>
        </p:nvSpPr>
        <p:spPr>
          <a:xfrm>
            <a:off x="731160" y="141300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Usos mais exi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0"/>
          <p:cNvSpPr/>
          <p:nvPr/>
        </p:nvSpPr>
        <p:spPr>
          <a:xfrm>
            <a:off x="507960" y="594360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Usos menos exi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11"/>
          <p:cNvSpPr/>
          <p:nvPr/>
        </p:nvSpPr>
        <p:spPr>
          <a:xfrm>
            <a:off x="1187280" y="2117880"/>
            <a:ext cx="1368720" cy="2895480"/>
          </a:xfrm>
          <a:prstGeom prst="downArrow">
            <a:avLst>
              <a:gd name="adj1" fmla="val 50000"/>
              <a:gd name="adj2" fmla="val 52887"/>
            </a:avLst>
          </a:prstGeom>
          <a:gradFill rotWithShape="0">
            <a:gsLst>
              <a:gs pos="0">
                <a:srgbClr val="00ccff"/>
              </a:gs>
              <a:gs pos="100000">
                <a:srgbClr val="00191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12" descr="irrigação"/>
          <p:cNvPicPr/>
          <p:nvPr/>
        </p:nvPicPr>
        <p:blipFill>
          <a:blip r:embed="rId3"/>
          <a:stretch/>
        </p:blipFill>
        <p:spPr>
          <a:xfrm>
            <a:off x="3494160" y="4191120"/>
            <a:ext cx="1990800" cy="1338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j0148983"/>
          <p:cNvPicPr/>
          <p:nvPr/>
        </p:nvPicPr>
        <p:blipFill>
          <a:blip r:embed="rId4"/>
          <a:stretch/>
        </p:blipFill>
        <p:spPr>
          <a:xfrm>
            <a:off x="3494160" y="2819520"/>
            <a:ext cx="1981080" cy="13017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4" descr="j0289874"/>
          <p:cNvPicPr/>
          <p:nvPr/>
        </p:nvPicPr>
        <p:blipFill>
          <a:blip r:embed="rId5"/>
          <a:stretch/>
        </p:blipFill>
        <p:spPr>
          <a:xfrm>
            <a:off x="3494160" y="1371600"/>
            <a:ext cx="1981080" cy="13302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15"/>
          <p:cNvSpPr/>
          <p:nvPr/>
        </p:nvSpPr>
        <p:spPr>
          <a:xfrm>
            <a:off x="6256800" y="6508800"/>
            <a:ext cx="285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onte: Marcelo Pires (ANA, 200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1258920" y="333360"/>
            <a:ext cx="70786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  <a:ea typeface="Arial"/>
              </a:rPr>
              <a:t>CLASSIFICAÇÃO DOS CORPOS D’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826920" y="2205000"/>
            <a:ext cx="1202040" cy="2895480"/>
          </a:xfrm>
          <a:prstGeom prst="downArrow">
            <a:avLst>
              <a:gd name="adj1" fmla="val 50000"/>
              <a:gd name="adj2" fmla="val 60220"/>
            </a:avLst>
          </a:prstGeom>
          <a:gradFill rotWithShape="0">
            <a:gsLst>
              <a:gs pos="0">
                <a:srgbClr val="00ccff"/>
              </a:gs>
              <a:gs pos="100000">
                <a:srgbClr val="00191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6172200" y="510552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U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MENOS EXIG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49320" y="1500120"/>
            <a:ext cx="280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QUALIDADE DA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EXCEL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6369840" y="1500120"/>
            <a:ext cx="218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US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MAIS EXIG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6877080" y="2209680"/>
            <a:ext cx="1224000" cy="2895840"/>
          </a:xfrm>
          <a:prstGeom prst="downArrow">
            <a:avLst>
              <a:gd name="adj1" fmla="val 50000"/>
              <a:gd name="adj2" fmla="val 59147"/>
            </a:avLst>
          </a:prstGeom>
          <a:gradFill rotWithShape="0">
            <a:gsLst>
              <a:gs pos="0">
                <a:srgbClr val="00ccff"/>
              </a:gs>
              <a:gs pos="100000">
                <a:srgbClr val="00191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87480" y="5081760"/>
            <a:ext cx="280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QUALIDADE DA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PÉSS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9" descr=""/>
          <p:cNvPicPr/>
          <p:nvPr/>
        </p:nvPicPr>
        <p:blipFill>
          <a:blip r:embed="rId1"/>
          <a:stretch/>
        </p:blipFill>
        <p:spPr>
          <a:xfrm>
            <a:off x="3135240" y="1700280"/>
            <a:ext cx="3524400" cy="39099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10"/>
          <p:cNvSpPr/>
          <p:nvPr/>
        </p:nvSpPr>
        <p:spPr>
          <a:xfrm>
            <a:off x="6256800" y="6508800"/>
            <a:ext cx="285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onte: Marcelo Pires (ANA, 200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"/>
          <p:cNvGraphicFramePr/>
          <p:nvPr/>
        </p:nvGraphicFramePr>
        <p:xfrm>
          <a:off x="825480" y="371520"/>
          <a:ext cx="8283600" cy="6394320"/>
        </p:xfrm>
        <a:graphic>
          <a:graphicData uri="http://schemas.openxmlformats.org/drawingml/2006/table">
            <a:tbl>
              <a:tblPr/>
              <a:tblGrid>
                <a:gridCol w="1855800"/>
                <a:gridCol w="1722600"/>
                <a:gridCol w="1722240"/>
                <a:gridCol w="1922400"/>
                <a:gridCol w="10605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spe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bastecimento humano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ó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desinfec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ç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bastecimento humano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ó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tratamento simplifi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bastecimento humano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ó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tratamento conven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bastecimento humano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ó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tratamento convencional ou avan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ç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rowSpan="7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32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eserva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ão 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quil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rio natu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as comunidades aqu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te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ão das comunidades aqu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te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ão das comunidades aqu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eserva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ão dos ambientes aqu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icos em Unidades de Conserva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ão de Prote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ão integ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te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ão das comunidades aqu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icas em Terras Ind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e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rowSpan="6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rrigação de hortaliças consumidas cru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rrigação de hortaliças, frutíferas, par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rrigação de culturas arbóreas, cereais e forragei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crea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ão de contato prim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crea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ão de contato prim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crea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ão de contato secund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ricultura e pes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s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ssedenta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ão de anima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vega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armonia paisag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59" name="Text Box 52"/>
          <p:cNvSpPr/>
          <p:nvPr/>
        </p:nvSpPr>
        <p:spPr>
          <a:xfrm>
            <a:off x="1763640" y="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s – água-d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3"/>
          <p:cNvSpPr/>
          <p:nvPr/>
        </p:nvSpPr>
        <p:spPr>
          <a:xfrm>
            <a:off x="-324000" y="3068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4"/>
          <p:cNvSpPr/>
          <p:nvPr/>
        </p:nvSpPr>
        <p:spPr>
          <a:xfrm>
            <a:off x="-7560" y="0"/>
            <a:ext cx="285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onte: Marcelo Pires (ANA, 200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"/>
          <p:cNvGraphicFramePr/>
          <p:nvPr/>
        </p:nvGraphicFramePr>
        <p:xfrm>
          <a:off x="1187280" y="1197000"/>
          <a:ext cx="7223400" cy="5124600"/>
        </p:xfrm>
        <a:graphic>
          <a:graphicData uri="http://schemas.openxmlformats.org/drawingml/2006/table">
            <a:tbl>
              <a:tblPr/>
              <a:tblGrid>
                <a:gridCol w="1855800"/>
                <a:gridCol w="1722600"/>
                <a:gridCol w="1722600"/>
                <a:gridCol w="19224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spe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1309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eserva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ão dos ambientes aqu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icos em unidades de conserva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ão de prote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ão integ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eserva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ão do equil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rio natural das comunidades aqu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teção das comunidades aquá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creação de contato primá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creação de contato secundá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6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qüicultura e à atividade de pesc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sca amad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vega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57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armonia paisag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sp>
        <p:nvSpPr>
          <p:cNvPr id="563" name="Text Box 41"/>
          <p:cNvSpPr/>
          <p:nvPr/>
        </p:nvSpPr>
        <p:spPr>
          <a:xfrm>
            <a:off x="1547640" y="2602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s – águas sal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2"/>
          <p:cNvSpPr/>
          <p:nvPr/>
        </p:nvSpPr>
        <p:spPr>
          <a:xfrm>
            <a:off x="-324000" y="3068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3"/>
          <p:cNvSpPr/>
          <p:nvPr/>
        </p:nvSpPr>
        <p:spPr>
          <a:xfrm>
            <a:off x="6256800" y="6508800"/>
            <a:ext cx="285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onte: Marcelo Pires (ANA, 200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6" name=""/>
          <p:cNvGraphicFramePr/>
          <p:nvPr/>
        </p:nvGraphicFramePr>
        <p:xfrm>
          <a:off x="1093680" y="712800"/>
          <a:ext cx="7223400" cy="5834160"/>
        </p:xfrm>
        <a:graphic>
          <a:graphicData uri="http://schemas.openxmlformats.org/drawingml/2006/table">
            <a:tbl>
              <a:tblPr/>
              <a:tblGrid>
                <a:gridCol w="1855800"/>
                <a:gridCol w="1722600"/>
                <a:gridCol w="1722240"/>
                <a:gridCol w="19227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spe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eserva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ão dos ambientes aqu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icos em unidades de conserva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ão de prote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ão integ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eserva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ão do equil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rio natural das comunidades aqu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teção das comunidades aquá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creação de contato primá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creação de contato secundá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qüicultura e à atividade de pesc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sca amad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11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bastecimento para consumo humano após tratamento convencional ou avanç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iga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ç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ão de hortali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ç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vega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armonia paisag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sp>
        <p:nvSpPr>
          <p:cNvPr id="567" name="Text Box 51"/>
          <p:cNvSpPr/>
          <p:nvPr/>
        </p:nvSpPr>
        <p:spPr>
          <a:xfrm>
            <a:off x="1116000" y="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s – águas salob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2"/>
          <p:cNvSpPr/>
          <p:nvPr/>
        </p:nvSpPr>
        <p:spPr>
          <a:xfrm>
            <a:off x="-324000" y="338472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53"/>
          <p:cNvSpPr/>
          <p:nvPr/>
        </p:nvSpPr>
        <p:spPr>
          <a:xfrm>
            <a:off x="6256800" y="6508800"/>
            <a:ext cx="285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onte: Marcelo Pires (ANA, 200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0" name=""/>
          <p:cNvGraphicFramePr/>
          <p:nvPr/>
        </p:nvGraphicFramePr>
        <p:xfrm>
          <a:off x="108000" y="1692360"/>
          <a:ext cx="8839080" cy="2749320"/>
        </p:xfrm>
        <a:graphic>
          <a:graphicData uri="http://schemas.openxmlformats.org/drawingml/2006/table">
            <a:tbl>
              <a:tblPr/>
              <a:tblGrid>
                <a:gridCol w="2666880"/>
                <a:gridCol w="838440"/>
                <a:gridCol w="1295280"/>
                <a:gridCol w="1371600"/>
                <a:gridCol w="1371600"/>
                <a:gridCol w="1295280"/>
              </a:tblGrid>
              <a:tr h="3967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ARÂME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Un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LA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xigênio Dissolv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&gt;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&gt;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&gt;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urbid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m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Bioqu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ica de Oxigê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sp>
        <p:nvSpPr>
          <p:cNvPr id="571" name="Rectangle 48"/>
          <p:cNvSpPr/>
          <p:nvPr/>
        </p:nvSpPr>
        <p:spPr>
          <a:xfrm>
            <a:off x="1006560" y="5229360"/>
            <a:ext cx="74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as águas de Classe Especial deverão ser manti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s condições naturais do corpo d’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9"/>
          <p:cNvSpPr/>
          <p:nvPr/>
        </p:nvSpPr>
        <p:spPr>
          <a:xfrm>
            <a:off x="395280" y="404640"/>
            <a:ext cx="733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s e parâmetros de qualidade da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50"/>
          <p:cNvSpPr/>
          <p:nvPr/>
        </p:nvSpPr>
        <p:spPr>
          <a:xfrm>
            <a:off x="414036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51"/>
          <p:cNvSpPr/>
          <p:nvPr/>
        </p:nvSpPr>
        <p:spPr>
          <a:xfrm>
            <a:off x="6256800" y="6508800"/>
            <a:ext cx="285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onte: Marcelo Pires (ANA, 200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Nós temos duas Polí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lítica Ambiental (Lei n. 6.938 de 198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8000"/>
                </a:solidFill>
                <a:latin typeface="Times New Roman"/>
              </a:rPr>
              <a:t>Prote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lítica de Recursos Hídricos (Lei n. 9.433 de 199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cc"/>
                </a:solidFill>
                <a:latin typeface="Times New Roman"/>
              </a:rPr>
              <a:t>U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2"/>
          <p:cNvSpPr/>
          <p:nvPr/>
        </p:nvSpPr>
        <p:spPr>
          <a:xfrm>
            <a:off x="362880" y="165240"/>
            <a:ext cx="83005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ADRÕES DE EFLUENTES (Art. 34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º,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s. CONAMA 357/05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1526040" y="579600"/>
            <a:ext cx="620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centrações máximas de poluentes no efl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324000" y="1221840"/>
            <a:ext cx="8424720" cy="15570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34. Os efluentes de qualquer fonte poluidora somente poderão ser 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Times New Roman"/>
              </a:rPr>
              <a:t>lançad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direta ou indiretamente, nos corpos de água desde que obedeçam as condições e padrões previstos neste artigo, resguardadas outras exigências cabíve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395280" y="311724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§ 5º Padrões de lançamento de eflu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971640" y="3652920"/>
          <a:ext cx="6769080" cy="2743200"/>
        </p:xfrm>
        <a:graphic>
          <a:graphicData uri="http://schemas.openxmlformats.org/drawingml/2006/table">
            <a:tbl>
              <a:tblPr/>
              <a:tblGrid>
                <a:gridCol w="3816360"/>
                <a:gridCol w="2952720"/>
              </a:tblGrid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ELA  X – LANÇAMENTO DE EFL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DRÕ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ÂMETROS INORGÂN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 MÁX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sênio 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 mg/L 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ário 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 mg/L 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ro 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 mg/L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ádmio 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 mg/L 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umbo 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 mg/L P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+15 parâmetros inorgânicos e 5 orgânic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lançamento de efluentes domésticos ou industriais em um rio acarreta agregação de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oluente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ao corpo de água recep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sso exigirá do rio uma certa quantidade de água para diluir os poluentes (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vazão de diluiçã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vazão de diluição é diretamente proporcional à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e polu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á poluentes conservativos 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não-conserv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dução da vazão de diluição ao longo do 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pendendo do tipo de poluente poderá haver comprometimento da corrente de água por muitos quilôme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798480" y="622440"/>
            <a:ext cx="7616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3. Lançamento de efluentes</a:t>
            </a:r>
            <a:br>
              <a:rPr sz="39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210960" y="1248840"/>
            <a:ext cx="8791920" cy="48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imes New Roman"/>
              </a:rPr>
              <a:t>Vazão de dilui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0">
              <a:lnSpc>
                <a:spcPct val="7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rivada da equação geral de mistura (balanço de mas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cc"/>
                </a:solidFill>
                <a:latin typeface="Times New Roman"/>
              </a:rPr>
              <a:t>                  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Times New Roman"/>
              </a:rPr>
              <a:t>final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 = (C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Times New Roman"/>
              </a:rPr>
              <a:t>A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. Q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Times New Roman"/>
              </a:rPr>
              <a:t>A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+ C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. Q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)/(Q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 + Q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ransforma” qualidade em quant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quivalente em vazão do comprometimento quali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nifica procedimentos de outorga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qualidade/quantida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râmetros conservativos e não-conserv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title"/>
          </p:nvPr>
        </p:nvSpPr>
        <p:spPr>
          <a:xfrm>
            <a:off x="798480" y="404280"/>
            <a:ext cx="761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3. Lançamento de efluent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6360" y="5784840"/>
            <a:ext cx="681768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Condições para cada parâmetro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centração do efluente ≤ Padrão de efluente (senão, fere Conam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azões indisponíveis ≤ Vazão do rio (senão, fere Enquadramen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Group 3"/>
          <p:cNvGrpSpPr/>
          <p:nvPr/>
        </p:nvGrpSpPr>
        <p:grpSpPr>
          <a:xfrm>
            <a:off x="40680" y="620640"/>
            <a:ext cx="2820240" cy="2463120"/>
            <a:chOff x="40680" y="620640"/>
            <a:chExt cx="2820240" cy="2463120"/>
          </a:xfrm>
        </p:grpSpPr>
        <p:grpSp>
          <p:nvGrpSpPr>
            <p:cNvPr id="586" name="Group 4"/>
            <p:cNvGrpSpPr/>
            <p:nvPr/>
          </p:nvGrpSpPr>
          <p:grpSpPr>
            <a:xfrm>
              <a:off x="471240" y="620640"/>
              <a:ext cx="1871640" cy="1728720"/>
              <a:chOff x="471240" y="620640"/>
              <a:chExt cx="1871640" cy="1728720"/>
            </a:xfrm>
          </p:grpSpPr>
          <p:sp>
            <p:nvSpPr>
              <p:cNvPr id="587" name="Rectangle 5"/>
              <p:cNvSpPr/>
              <p:nvPr/>
            </p:nvSpPr>
            <p:spPr>
              <a:xfrm>
                <a:off x="687240" y="765000"/>
                <a:ext cx="1512720" cy="1584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6"/>
              <p:cNvSpPr/>
              <p:nvPr/>
            </p:nvSpPr>
            <p:spPr>
              <a:xfrm>
                <a:off x="471240" y="620640"/>
                <a:ext cx="1871640" cy="21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Rectangle 7"/>
            <p:cNvSpPr/>
            <p:nvPr/>
          </p:nvSpPr>
          <p:spPr>
            <a:xfrm>
              <a:off x="687240" y="1989000"/>
              <a:ext cx="1512720" cy="360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8"/>
            <p:cNvSpPr/>
            <p:nvPr/>
          </p:nvSpPr>
          <p:spPr>
            <a:xfrm>
              <a:off x="40680" y="2443320"/>
              <a:ext cx="28202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Vol. efluente (Qef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oncentração Efluente (Cef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Text Box 9"/>
          <p:cNvSpPr/>
          <p:nvPr/>
        </p:nvSpPr>
        <p:spPr>
          <a:xfrm>
            <a:off x="574200" y="123840"/>
            <a:ext cx="77212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a vazão de diluição e da vazão indisponí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Group 10"/>
          <p:cNvGrpSpPr/>
          <p:nvPr/>
        </p:nvGrpSpPr>
        <p:grpSpPr>
          <a:xfrm>
            <a:off x="6877080" y="6041880"/>
            <a:ext cx="2280240" cy="368280"/>
            <a:chOff x="6877080" y="6041880"/>
            <a:chExt cx="2280240" cy="368280"/>
          </a:xfrm>
        </p:grpSpPr>
        <p:sp>
          <p:nvSpPr>
            <p:cNvPr id="593" name="Line 11"/>
            <p:cNvSpPr/>
            <p:nvPr/>
          </p:nvSpPr>
          <p:spPr>
            <a:xfrm>
              <a:off x="6877080" y="6237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7286400" y="6041880"/>
              <a:ext cx="187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Licença ambien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Group 13"/>
          <p:cNvGrpSpPr/>
          <p:nvPr/>
        </p:nvGrpSpPr>
        <p:grpSpPr>
          <a:xfrm>
            <a:off x="6588000" y="6283440"/>
            <a:ext cx="1627560" cy="368280"/>
            <a:chOff x="6588000" y="6283440"/>
            <a:chExt cx="1627560" cy="368280"/>
          </a:xfrm>
        </p:grpSpPr>
        <p:sp>
          <p:nvSpPr>
            <p:cNvPr id="596" name="Line 14"/>
            <p:cNvSpPr/>
            <p:nvPr/>
          </p:nvSpPr>
          <p:spPr>
            <a:xfrm>
              <a:off x="6588000" y="64911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15"/>
            <p:cNvSpPr/>
            <p:nvPr/>
          </p:nvSpPr>
          <p:spPr>
            <a:xfrm>
              <a:off x="7284960" y="628344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Outorg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Group 16"/>
          <p:cNvGrpSpPr/>
          <p:nvPr/>
        </p:nvGrpSpPr>
        <p:grpSpPr>
          <a:xfrm>
            <a:off x="358920" y="620640"/>
            <a:ext cx="5489640" cy="4769640"/>
            <a:chOff x="358920" y="620640"/>
            <a:chExt cx="5489640" cy="4769640"/>
          </a:xfrm>
        </p:grpSpPr>
        <p:grpSp>
          <p:nvGrpSpPr>
            <p:cNvPr id="599" name="Group 17"/>
            <p:cNvGrpSpPr/>
            <p:nvPr/>
          </p:nvGrpSpPr>
          <p:grpSpPr>
            <a:xfrm>
              <a:off x="358920" y="620640"/>
              <a:ext cx="5489640" cy="4483080"/>
              <a:chOff x="358920" y="620640"/>
              <a:chExt cx="5489640" cy="4483080"/>
            </a:xfrm>
          </p:grpSpPr>
          <p:grpSp>
            <p:nvGrpSpPr>
              <p:cNvPr id="600" name="Group 18"/>
              <p:cNvGrpSpPr/>
              <p:nvPr/>
            </p:nvGrpSpPr>
            <p:grpSpPr>
              <a:xfrm>
                <a:off x="2606760" y="620640"/>
                <a:ext cx="3241800" cy="2483640"/>
                <a:chOff x="2606760" y="620640"/>
                <a:chExt cx="3241800" cy="2483640"/>
              </a:xfrm>
            </p:grpSpPr>
            <p:grpSp>
              <p:nvGrpSpPr>
                <p:cNvPr id="601" name="Group 19"/>
                <p:cNvGrpSpPr/>
                <p:nvPr/>
              </p:nvGrpSpPr>
              <p:grpSpPr>
                <a:xfrm>
                  <a:off x="3349440" y="620640"/>
                  <a:ext cx="1871640" cy="1728720"/>
                  <a:chOff x="3349440" y="620640"/>
                  <a:chExt cx="1871640" cy="1728720"/>
                </a:xfrm>
              </p:grpSpPr>
              <p:sp>
                <p:nvSpPr>
                  <p:cNvPr id="602" name="Rectangle 20"/>
                  <p:cNvSpPr/>
                  <p:nvPr/>
                </p:nvSpPr>
                <p:spPr>
                  <a:xfrm>
                    <a:off x="3565440" y="765000"/>
                    <a:ext cx="1512720" cy="158436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Rectangle 21"/>
                  <p:cNvSpPr/>
                  <p:nvPr/>
                </p:nvSpPr>
                <p:spPr>
                  <a:xfrm>
                    <a:off x="3349440" y="620640"/>
                    <a:ext cx="1871640" cy="215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4" name="Text Box 22"/>
                <p:cNvSpPr/>
                <p:nvPr/>
              </p:nvSpPr>
              <p:spPr>
                <a:xfrm>
                  <a:off x="2606760" y="1135080"/>
                  <a:ext cx="528120" cy="82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Rectangle 23"/>
                <p:cNvSpPr/>
                <p:nvPr/>
              </p:nvSpPr>
              <p:spPr>
                <a:xfrm>
                  <a:off x="3565440" y="1484280"/>
                  <a:ext cx="1512720" cy="8650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Text Box 24"/>
                <p:cNvSpPr/>
                <p:nvPr/>
              </p:nvSpPr>
              <p:spPr>
                <a:xfrm>
                  <a:off x="3016080" y="2463840"/>
                  <a:ext cx="283248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ff0000"/>
                      </a:solidFill>
                      <a:latin typeface="Times New Roman"/>
                    </a:rPr>
                    <a:t>Vol. Diluição</a:t>
                  </a:r>
                  <a:r>
                    <a:rPr b="0" lang="pt-BR" sz="1800" spc="-1" strike="noStrike">
                      <a:solidFill>
                        <a:srgbClr val="000000"/>
                      </a:solidFill>
                      <a:latin typeface="Times New Roman"/>
                    </a:rPr>
                    <a:t> (Qdil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Times New Roman"/>
                    </a:rPr>
                    <a:t>Concentração Natural (Cnat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Group 25"/>
              <p:cNvGrpSpPr/>
              <p:nvPr/>
            </p:nvGrpSpPr>
            <p:grpSpPr>
              <a:xfrm>
                <a:off x="358920" y="3141720"/>
                <a:ext cx="3673440" cy="1962000"/>
                <a:chOff x="358920" y="3141720"/>
                <a:chExt cx="3673440" cy="19620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608" name="Object 26"/>
                    <p:cNvSpPr txBox="1"/>
                    <p:nvPr/>
                  </p:nvSpPr>
                  <p:spPr>
                    <a:xfrm>
                      <a:off x="358920" y="4365720"/>
                      <a:ext cx="3208320" cy="738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Qdil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ef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nat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609" name="Line 27"/>
                <p:cNvSpPr/>
                <p:nvPr/>
              </p:nvSpPr>
              <p:spPr>
                <a:xfrm flipH="1">
                  <a:off x="2087640" y="3141720"/>
                  <a:ext cx="1944720" cy="11160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0" name="Text Box 28"/>
            <p:cNvSpPr/>
            <p:nvPr/>
          </p:nvSpPr>
          <p:spPr>
            <a:xfrm>
              <a:off x="2442240" y="5083200"/>
              <a:ext cx="119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Kelman, 199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Group 29"/>
          <p:cNvGrpSpPr/>
          <p:nvPr/>
        </p:nvGrpSpPr>
        <p:grpSpPr>
          <a:xfrm>
            <a:off x="4640400" y="620640"/>
            <a:ext cx="4515120" cy="5437440"/>
            <a:chOff x="4640400" y="620640"/>
            <a:chExt cx="4515120" cy="5437440"/>
          </a:xfrm>
        </p:grpSpPr>
        <p:grpSp>
          <p:nvGrpSpPr>
            <p:cNvPr id="612" name="Group 30"/>
            <p:cNvGrpSpPr/>
            <p:nvPr/>
          </p:nvGrpSpPr>
          <p:grpSpPr>
            <a:xfrm>
              <a:off x="4640400" y="620640"/>
              <a:ext cx="4515120" cy="5437440"/>
              <a:chOff x="4640400" y="620640"/>
              <a:chExt cx="4515120" cy="5437440"/>
            </a:xfrm>
          </p:grpSpPr>
          <p:grpSp>
            <p:nvGrpSpPr>
              <p:cNvPr id="613" name="Group 31"/>
              <p:cNvGrpSpPr/>
              <p:nvPr/>
            </p:nvGrpSpPr>
            <p:grpSpPr>
              <a:xfrm>
                <a:off x="5713560" y="620640"/>
                <a:ext cx="3441960" cy="2714400"/>
                <a:chOff x="5713560" y="620640"/>
                <a:chExt cx="3441960" cy="2714400"/>
              </a:xfrm>
            </p:grpSpPr>
            <p:grpSp>
              <p:nvGrpSpPr>
                <p:cNvPr id="614" name="Group 32"/>
                <p:cNvGrpSpPr/>
                <p:nvPr/>
              </p:nvGrpSpPr>
              <p:grpSpPr>
                <a:xfrm>
                  <a:off x="6445080" y="620640"/>
                  <a:ext cx="1871640" cy="1728720"/>
                  <a:chOff x="6445080" y="620640"/>
                  <a:chExt cx="1871640" cy="1728720"/>
                </a:xfrm>
              </p:grpSpPr>
              <p:sp>
                <p:nvSpPr>
                  <p:cNvPr id="615" name="Rectangle 33"/>
                  <p:cNvSpPr/>
                  <p:nvPr/>
                </p:nvSpPr>
                <p:spPr>
                  <a:xfrm>
                    <a:off x="6661080" y="765000"/>
                    <a:ext cx="1512720" cy="158436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Rectangle 34"/>
                  <p:cNvSpPr/>
                  <p:nvPr/>
                </p:nvSpPr>
                <p:spPr>
                  <a:xfrm>
                    <a:off x="6445080" y="620640"/>
                    <a:ext cx="1871640" cy="215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7" name="Text Box 35"/>
                <p:cNvSpPr/>
                <p:nvPr/>
              </p:nvSpPr>
              <p:spPr>
                <a:xfrm>
                  <a:off x="5713560" y="1120680"/>
                  <a:ext cx="528120" cy="82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Rectangle 36"/>
                <p:cNvSpPr/>
                <p:nvPr/>
              </p:nvSpPr>
              <p:spPr>
                <a:xfrm>
                  <a:off x="6659640" y="1063800"/>
                  <a:ext cx="1512720" cy="128556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Text Box 37"/>
                <p:cNvSpPr/>
                <p:nvPr/>
              </p:nvSpPr>
              <p:spPr>
                <a:xfrm>
                  <a:off x="5754600" y="2451240"/>
                  <a:ext cx="3400920" cy="88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Times New Roman"/>
                    </a:rPr>
                    <a:t>Vol. Indisponível (Qindisp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ff0000"/>
                      </a:solidFill>
                      <a:latin typeface="Times New Roman"/>
                    </a:rPr>
                    <a:t>Concentração permitida</a:t>
                  </a:r>
                  <a:r>
                    <a:rPr b="0" lang="pt-BR" sz="1800" spc="-1" strike="noStrike">
                      <a:solidFill>
                        <a:srgbClr val="000000"/>
                      </a:solidFill>
                      <a:latin typeface="Times New Roman"/>
                    </a:rPr>
                    <a:t> (Cperm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Enquadrament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Group 38"/>
              <p:cNvGrpSpPr/>
              <p:nvPr/>
            </p:nvGrpSpPr>
            <p:grpSpPr>
              <a:xfrm>
                <a:off x="4640400" y="3141720"/>
                <a:ext cx="3773520" cy="2916360"/>
                <a:chOff x="4640400" y="3141720"/>
                <a:chExt cx="3773520" cy="29163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621" name="Object 39"/>
                    <p:cNvSpPr txBox="1"/>
                    <p:nvPr/>
                  </p:nvSpPr>
                  <p:spPr>
                    <a:xfrm>
                      <a:off x="4640400" y="5510160"/>
                      <a:ext cx="3773520" cy="547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Qdil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622" name="Line 40"/>
                <p:cNvSpPr/>
                <p:nvPr/>
              </p:nvSpPr>
              <p:spPr>
                <a:xfrm flipH="1">
                  <a:off x="5651640" y="3141720"/>
                  <a:ext cx="792000" cy="20160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3" name="Text Box 41"/>
            <p:cNvSpPr/>
            <p:nvPr/>
          </p:nvSpPr>
          <p:spPr>
            <a:xfrm>
              <a:off x="7292520" y="5280120"/>
              <a:ext cx="125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Meneses, 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755280" y="189000"/>
            <a:ext cx="7777080" cy="23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Times New Roman"/>
              </a:rPr>
              <a:t>É possível emitir uma outorga para lançamento de efluentes fora dos </a:t>
            </a:r>
            <a:r>
              <a:rPr b="0" lang="pt-BR" sz="3800" spc="-1" strike="noStrike" u="sng">
                <a:solidFill>
                  <a:srgbClr val="000000"/>
                </a:solidFill>
                <a:uFillTx/>
                <a:latin typeface="Times New Roman"/>
              </a:rPr>
              <a:t>padrões de lançamento</a:t>
            </a:r>
            <a:r>
              <a:rPr b="0" lang="pt-BR" sz="3800" spc="-1" strike="noStrike">
                <a:solidFill>
                  <a:srgbClr val="000000"/>
                </a:solidFill>
                <a:latin typeface="Times New Roman"/>
              </a:rPr>
              <a:t> estabelecidos pela Resolução Conama n.º 357/2005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971640" y="2781360"/>
            <a:ext cx="72928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imes New Roman"/>
                <a:ea typeface="Arial"/>
              </a:rPr>
              <a:t>O único aspecto de qualidade que, legalmente, a Outorga deve observar é o </a:t>
            </a:r>
            <a:r>
              <a:rPr b="1" lang="pt-BR" sz="2800" spc="-1" strike="noStrike">
                <a:solidFill>
                  <a:srgbClr val="0000cc"/>
                </a:solidFill>
                <a:latin typeface="Times New Roman"/>
                <a:ea typeface="Arial"/>
              </a:rPr>
              <a:t>enquadramento</a:t>
            </a:r>
            <a:r>
              <a:rPr b="0" lang="pt-BR" sz="2800" spc="-1" strike="noStrike">
                <a:solidFill>
                  <a:srgbClr val="0000cc"/>
                </a:solidFill>
                <a:latin typeface="Times New Roman"/>
                <a:ea typeface="Arial"/>
              </a:rPr>
              <a:t> do corpo de ág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imes New Roman"/>
                <a:ea typeface="Arial"/>
              </a:rPr>
              <a:t>Se </a:t>
            </a:r>
            <a:r>
              <a:rPr b="1" lang="pt-BR" sz="2800" spc="-1" strike="noStrike">
                <a:solidFill>
                  <a:srgbClr val="0000cc"/>
                </a:solidFill>
                <a:latin typeface="Times New Roman"/>
                <a:ea typeface="Arial"/>
              </a:rPr>
              <a:t>todas</a:t>
            </a:r>
            <a:r>
              <a:rPr b="0" lang="pt-BR" sz="2800" spc="-1" strike="noStrike">
                <a:solidFill>
                  <a:srgbClr val="0000cc"/>
                </a:solidFill>
                <a:latin typeface="Times New Roman"/>
                <a:ea typeface="Arial"/>
              </a:rPr>
              <a:t> as outorgas </a:t>
            </a:r>
            <a:r>
              <a:rPr b="0" lang="pt-BR" sz="28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emitidas</a:t>
            </a:r>
            <a:r>
              <a:rPr b="0" lang="pt-BR" sz="2800" spc="-1" strike="noStrike">
                <a:solidFill>
                  <a:srgbClr val="0000cc"/>
                </a:solidFill>
                <a:latin typeface="Times New Roman"/>
                <a:ea typeface="Arial"/>
              </a:rPr>
              <a:t> não alterarem o enquadramento, a resposta é </a:t>
            </a:r>
            <a:r>
              <a:rPr b="1" lang="pt-BR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SIM</a:t>
            </a:r>
            <a:r>
              <a:rPr b="1" lang="pt-BR" sz="2800" spc="-1" strike="noStrike">
                <a:solidFill>
                  <a:srgbClr val="0000cc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Group 4"/>
          <p:cNvGrpSpPr/>
          <p:nvPr/>
        </p:nvGrpSpPr>
        <p:grpSpPr>
          <a:xfrm>
            <a:off x="136440" y="4960800"/>
            <a:ext cx="8718480" cy="1653480"/>
            <a:chOff x="136440" y="4960800"/>
            <a:chExt cx="8718480" cy="1653480"/>
          </a:xfrm>
        </p:grpSpPr>
        <p:sp>
          <p:nvSpPr>
            <p:cNvPr id="627" name="Rectangle 5"/>
            <p:cNvSpPr/>
            <p:nvPr/>
          </p:nvSpPr>
          <p:spPr>
            <a:xfrm>
              <a:off x="179280" y="5300640"/>
              <a:ext cx="8675640" cy="1313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ei 9.433/97, Art. 13 “</a:t>
              </a:r>
              <a:r>
                <a:rPr b="1" lang="pt-BR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Toda outorga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estará</a:t>
              </a:r>
              <a:r>
                <a:rPr b="0" lang="pt-BR" sz="2000" spc="-1" strike="noStrike">
                  <a:solidFill>
                    <a:srgbClr val="996633"/>
                  </a:solidFill>
                  <a:latin typeface="Times New Roman"/>
                  <a:ea typeface="Arial"/>
                </a:rPr>
                <a:t> 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ndicionada</a:t>
              </a:r>
              <a:r>
                <a:rPr b="0" lang="pt-BR" sz="2000" spc="-1" strike="noStrike">
                  <a:solidFill>
                    <a:srgbClr val="996633"/>
                  </a:solidFill>
                  <a:latin typeface="Times New Roman"/>
                  <a:ea typeface="Arial"/>
                </a:rPr>
                <a:t> 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às prioridades de uso estabelecidas nos</a:t>
              </a:r>
              <a:r>
                <a:rPr b="0" lang="pt-BR" sz="2000" spc="-1" strike="noStrike">
                  <a:solidFill>
                    <a:srgbClr val="996633"/>
                  </a:solidFill>
                  <a:latin typeface="Times New Roman"/>
                  <a:ea typeface="Arial"/>
                </a:rPr>
                <a:t> 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lanos</a:t>
              </a:r>
              <a:r>
                <a:rPr b="0" lang="pt-BR" sz="2000" spc="-1" strike="noStrike">
                  <a:solidFill>
                    <a:srgbClr val="996633"/>
                  </a:solidFill>
                  <a:latin typeface="Times New Roman"/>
                  <a:ea typeface="Arial"/>
                </a:rPr>
                <a:t> 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e Recursos Hídricos e </a:t>
              </a:r>
              <a:r>
                <a:rPr b="1" lang="pt-BR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deverá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pt-BR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respeitar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pt-BR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a classe em que o corpo hídrico estiver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pt-BR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enquadrado</a:t>
              </a: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 a manutenção de condições adequadas ao transporte aquaviário</a:t>
              </a:r>
              <a:r>
                <a:rPr b="0" lang="pt-BR" sz="2000" spc="-1" strike="noStrike">
                  <a:solidFill>
                    <a:srgbClr val="996633"/>
                  </a:solidFill>
                  <a:latin typeface="Times New Roman"/>
                  <a:ea typeface="Arial"/>
                </a:rPr>
                <a:t>, 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quando for o caso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6"/>
            <p:cNvSpPr/>
            <p:nvPr/>
          </p:nvSpPr>
          <p:spPr>
            <a:xfrm>
              <a:off x="136440" y="4960800"/>
              <a:ext cx="122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embret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á diversas equações para vários parâme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798480" y="404280"/>
            <a:ext cx="761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3.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Group 4"/>
          <p:cNvGrpSpPr/>
          <p:nvPr/>
        </p:nvGrpSpPr>
        <p:grpSpPr>
          <a:xfrm>
            <a:off x="471600" y="2060640"/>
            <a:ext cx="6260760" cy="1223640"/>
            <a:chOff x="471600" y="2060640"/>
            <a:chExt cx="6260760" cy="1223640"/>
          </a:xfrm>
        </p:grpSpPr>
        <mc:AlternateContent>
          <mc:Choice xmlns:a14="http://schemas.microsoft.com/office/drawing/2010/main" Requires="a14">
            <p:sp>
              <p:nvSpPr>
                <p:cNvPr id="632" name="Object 5"/>
                <p:cNvSpPr txBox="1"/>
                <p:nvPr/>
              </p:nvSpPr>
              <p:spPr>
                <a:xfrm>
                  <a:off x="1119240" y="2376000"/>
                  <a:ext cx="5613120" cy="90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3" name="Text Box 6"/>
            <p:cNvSpPr/>
            <p:nvPr/>
          </p:nvSpPr>
          <p:spPr>
            <a:xfrm>
              <a:off x="471600" y="206064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996633"/>
                  </a:solidFill>
                  <a:latin typeface="Times New Roman"/>
                  <a:ea typeface="Arial"/>
                </a:rPr>
                <a:t>DB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Group 7"/>
          <p:cNvGrpSpPr/>
          <p:nvPr/>
        </p:nvGrpSpPr>
        <p:grpSpPr>
          <a:xfrm>
            <a:off x="308160" y="3284640"/>
            <a:ext cx="8511480" cy="1444320"/>
            <a:chOff x="308160" y="3284640"/>
            <a:chExt cx="8511480" cy="1444320"/>
          </a:xfrm>
        </p:grpSpPr>
        <p:sp>
          <p:nvSpPr>
            <p:cNvPr id="635" name="Text Box 8"/>
            <p:cNvSpPr/>
            <p:nvPr/>
          </p:nvSpPr>
          <p:spPr>
            <a:xfrm>
              <a:off x="308160" y="3284640"/>
              <a:ext cx="182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Temperat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6" name="Object 9"/>
                <p:cNvSpPr txBox="1"/>
                <p:nvPr/>
              </p:nvSpPr>
              <p:spPr>
                <a:xfrm>
                  <a:off x="773280" y="3846240"/>
                  <a:ext cx="804636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perm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ma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Kr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empo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ma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man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ma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7" name="Group 10"/>
          <p:cNvGrpSpPr/>
          <p:nvPr/>
        </p:nvGrpSpPr>
        <p:grpSpPr>
          <a:xfrm>
            <a:off x="322200" y="4984920"/>
            <a:ext cx="7103880" cy="1828440"/>
            <a:chOff x="322200" y="4984920"/>
            <a:chExt cx="7103880" cy="1828440"/>
          </a:xfrm>
        </p:grpSpPr>
        <mc:AlternateContent>
          <mc:Choice xmlns:a14="http://schemas.microsoft.com/office/drawing/2010/main" Requires="a14">
            <p:sp>
              <p:nvSpPr>
                <p:cNvPr id="638" name="Object 11"/>
                <p:cNvSpPr txBox="1"/>
                <p:nvPr/>
              </p:nvSpPr>
              <p:spPr>
                <a:xfrm>
                  <a:off x="1726200" y="5763240"/>
                  <a:ext cx="5699880" cy="105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9" name="Text Box 12"/>
            <p:cNvSpPr/>
            <p:nvPr/>
          </p:nvSpPr>
          <p:spPr>
            <a:xfrm>
              <a:off x="322200" y="498492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arâmetros conservativ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Text Box 13"/>
          <p:cNvSpPr/>
          <p:nvPr/>
        </p:nvSpPr>
        <p:spPr>
          <a:xfrm>
            <a:off x="7524360" y="1700280"/>
            <a:ext cx="12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eneses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2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1726200" y="952560"/>
            <a:ext cx="64821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ixe de tubos e cones (Vazão indisponív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3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2c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4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2c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Group 5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645" name="Oval 6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2c2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Oval 7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2c2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Oval 8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2c2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Oval 9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2c2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Oval 10"/>
          <p:cNvSpPr/>
          <p:nvPr/>
        </p:nvSpPr>
        <p:spPr>
          <a:xfrm rot="21487800">
            <a:off x="7175520" y="518004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bc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11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2c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Group 12"/>
          <p:cNvGrpSpPr/>
          <p:nvPr/>
        </p:nvGrpSpPr>
        <p:grpSpPr>
          <a:xfrm>
            <a:off x="3657600" y="2871000"/>
            <a:ext cx="5063760" cy="3529800"/>
            <a:chOff x="3657600" y="2871000"/>
            <a:chExt cx="5063760" cy="3529800"/>
          </a:xfrm>
        </p:grpSpPr>
        <p:grpSp>
          <p:nvGrpSpPr>
            <p:cNvPr id="652" name="Group 13"/>
            <p:cNvGrpSpPr/>
            <p:nvPr/>
          </p:nvGrpSpPr>
          <p:grpSpPr>
            <a:xfrm>
              <a:off x="3657600" y="3352680"/>
              <a:ext cx="3165480" cy="2051280"/>
              <a:chOff x="3657600" y="3352680"/>
              <a:chExt cx="3165480" cy="2051280"/>
            </a:xfrm>
          </p:grpSpPr>
          <p:sp>
            <p:nvSpPr>
              <p:cNvPr id="653" name="Freeform 14"/>
              <p:cNvSpPr/>
              <p:nvPr/>
            </p:nvSpPr>
            <p:spPr>
              <a:xfrm>
                <a:off x="3657600" y="3352680"/>
                <a:ext cx="3165480" cy="2051280"/>
              </a:xfrm>
              <a:custGeom>
                <a:avLst/>
                <a:gdLst>
                  <a:gd name="textAreaLeft" fmla="*/ 0 w 3165480"/>
                  <a:gd name="textAreaRight" fmla="*/ 3165840 w 3165480"/>
                  <a:gd name="textAreaTop" fmla="*/ 0 h 2051280"/>
                  <a:gd name="textAreaBottom" fmla="*/ 2051640 h 2051280"/>
                </a:gdLst>
                <a:ahLst/>
                <a:rect l="textAreaLeft" t="textAreaTop" r="textAreaRight" b="textAreaBottom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15"/>
              <p:cNvSpPr/>
              <p:nvPr/>
            </p:nvSpPr>
            <p:spPr>
              <a:xfrm flipV="1">
                <a:off x="3938400" y="3733920"/>
                <a:ext cx="2391480" cy="457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Group 16"/>
            <p:cNvGrpSpPr/>
            <p:nvPr/>
          </p:nvGrpSpPr>
          <p:grpSpPr>
            <a:xfrm>
              <a:off x="3657600" y="2871000"/>
              <a:ext cx="5063760" cy="3529800"/>
              <a:chOff x="3657600" y="2871000"/>
              <a:chExt cx="5063760" cy="3529800"/>
            </a:xfrm>
          </p:grpSpPr>
          <p:sp>
            <p:nvSpPr>
              <p:cNvPr id="656" name="Line 17"/>
              <p:cNvSpPr/>
              <p:nvPr/>
            </p:nvSpPr>
            <p:spPr>
              <a:xfrm>
                <a:off x="3657600" y="365760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18"/>
              <p:cNvSpPr/>
              <p:nvPr/>
            </p:nvSpPr>
            <p:spPr>
              <a:xfrm>
                <a:off x="6752160" y="342900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Line 19"/>
              <p:cNvSpPr/>
              <p:nvPr/>
            </p:nvSpPr>
            <p:spPr>
              <a:xfrm>
                <a:off x="5415480" y="541008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20"/>
              <p:cNvSpPr/>
              <p:nvPr/>
            </p:nvSpPr>
            <p:spPr>
              <a:xfrm>
                <a:off x="6259680" y="3733920"/>
                <a:ext cx="1899000" cy="990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Freeform 21"/>
              <p:cNvSpPr/>
              <p:nvPr/>
            </p:nvSpPr>
            <p:spPr>
              <a:xfrm>
                <a:off x="5556600" y="4343400"/>
                <a:ext cx="3164760" cy="2050920"/>
              </a:xfrm>
              <a:custGeom>
                <a:avLst/>
                <a:gdLst>
                  <a:gd name="textAreaLeft" fmla="*/ 0 w 3164760"/>
                  <a:gd name="textAreaRight" fmla="*/ 3165120 w 3164760"/>
                  <a:gd name="textAreaTop" fmla="*/ 0 h 2050920"/>
                  <a:gd name="textAreaBottom" fmla="*/ 2051280 h 2050920"/>
                </a:gdLst>
                <a:ahLst/>
                <a:rect l="textAreaLeft" t="textAreaTop" r="textAreaRight" b="textAreaBottom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22"/>
              <p:cNvSpPr/>
              <p:nvPr/>
            </p:nvSpPr>
            <p:spPr>
              <a:xfrm flipV="1">
                <a:off x="5837760" y="4724280"/>
                <a:ext cx="2391480" cy="457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23"/>
              <p:cNvSpPr/>
              <p:nvPr/>
            </p:nvSpPr>
            <p:spPr>
              <a:xfrm>
                <a:off x="3938400" y="4191120"/>
                <a:ext cx="1899000" cy="990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24"/>
              <p:cNvSpPr/>
              <p:nvPr/>
            </p:nvSpPr>
            <p:spPr>
              <a:xfrm flipH="1" flipV="1">
                <a:off x="7103520" y="3123720"/>
                <a:ext cx="1265760" cy="68580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Text Box 25"/>
              <p:cNvSpPr/>
              <p:nvPr/>
            </p:nvSpPr>
            <p:spPr>
              <a:xfrm rot="1610400">
                <a:off x="7350120" y="3048120"/>
                <a:ext cx="8953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Flux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5" name="Group 26"/>
          <p:cNvGrpSpPr/>
          <p:nvPr/>
        </p:nvGrpSpPr>
        <p:grpSpPr>
          <a:xfrm>
            <a:off x="2448720" y="4563720"/>
            <a:ext cx="2218320" cy="1860120"/>
            <a:chOff x="2448720" y="4563720"/>
            <a:chExt cx="2218320" cy="1860120"/>
          </a:xfrm>
        </p:grpSpPr>
        <p:sp>
          <p:nvSpPr>
            <p:cNvPr id="666" name="Oval 27"/>
            <p:cNvSpPr/>
            <p:nvPr/>
          </p:nvSpPr>
          <p:spPr>
            <a:xfrm rot="133200">
              <a:off x="414936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bc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28"/>
            <p:cNvSpPr/>
            <p:nvPr/>
          </p:nvSpPr>
          <p:spPr>
            <a:xfrm rot="1811400">
              <a:off x="2380680" y="5130360"/>
              <a:ext cx="2353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Parâmetro conserv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Group 29"/>
          <p:cNvGrpSpPr/>
          <p:nvPr/>
        </p:nvGrpSpPr>
        <p:grpSpPr>
          <a:xfrm>
            <a:off x="547200" y="4655880"/>
            <a:ext cx="2667240" cy="1744920"/>
            <a:chOff x="547200" y="4655880"/>
            <a:chExt cx="2667240" cy="1744920"/>
          </a:xfrm>
        </p:grpSpPr>
        <p:sp>
          <p:nvSpPr>
            <p:cNvPr id="669" name="Oval 30"/>
            <p:cNvSpPr/>
            <p:nvPr/>
          </p:nvSpPr>
          <p:spPr>
            <a:xfrm>
              <a:off x="2743920" y="6095880"/>
              <a:ext cx="28152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2c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Text Box 31"/>
            <p:cNvSpPr/>
            <p:nvPr/>
          </p:nvSpPr>
          <p:spPr>
            <a:xfrm rot="1456800">
              <a:off x="500040" y="5207040"/>
              <a:ext cx="2760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Parâmetro não-conserv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Group 32"/>
          <p:cNvGrpSpPr/>
          <p:nvPr/>
        </p:nvGrpSpPr>
        <p:grpSpPr>
          <a:xfrm>
            <a:off x="47520" y="1638360"/>
            <a:ext cx="1718280" cy="1181160"/>
            <a:chOff x="47520" y="1638360"/>
            <a:chExt cx="1718280" cy="1181160"/>
          </a:xfrm>
        </p:grpSpPr>
        <p:sp>
          <p:nvSpPr>
            <p:cNvPr id="672" name="AutoShape 33"/>
            <p:cNvSpPr/>
            <p:nvPr/>
          </p:nvSpPr>
          <p:spPr>
            <a:xfrm>
              <a:off x="47520" y="2057400"/>
              <a:ext cx="1546920" cy="762120"/>
            </a:xfrm>
            <a:custGeom>
              <a:avLst/>
              <a:gdLst>
                <a:gd name="textAreaLeft" fmla="*/ 226800 w 1546920"/>
                <a:gd name="textAreaRight" fmla="*/ 1320120 w 1546920"/>
                <a:gd name="textAreaTop" fmla="*/ 110880 h 762120"/>
                <a:gd name="textAreaBottom" fmla="*/ 651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145" y="10800"/>
                  </a:moveTo>
                  <a:cubicBezTo>
                    <a:pt x="19145" y="6191"/>
                    <a:pt x="15408" y="2455"/>
                    <a:pt x="10800" y="2455"/>
                  </a:cubicBezTo>
                  <a:cubicBezTo>
                    <a:pt x="6191" y="2455"/>
                    <a:pt x="2455" y="6191"/>
                    <a:pt x="2455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lnTo>
                    <a:pt x="191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Text Box 34"/>
            <p:cNvSpPr/>
            <p:nvPr/>
          </p:nvSpPr>
          <p:spPr>
            <a:xfrm>
              <a:off x="73440" y="1638360"/>
              <a:ext cx="1692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Lanç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Group 35"/>
          <p:cNvGrpSpPr/>
          <p:nvPr/>
        </p:nvGrpSpPr>
        <p:grpSpPr>
          <a:xfrm>
            <a:off x="2789280" y="2438280"/>
            <a:ext cx="6298560" cy="1284480"/>
            <a:chOff x="2789280" y="2438280"/>
            <a:chExt cx="6298560" cy="1284480"/>
          </a:xfrm>
        </p:grpSpPr>
        <p:sp>
          <p:nvSpPr>
            <p:cNvPr id="675" name="Oval 36"/>
            <p:cNvSpPr/>
            <p:nvPr/>
          </p:nvSpPr>
          <p:spPr>
            <a:xfrm>
              <a:off x="2789280" y="2884320"/>
              <a:ext cx="609480" cy="838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bc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Text Box 37"/>
            <p:cNvSpPr/>
            <p:nvPr/>
          </p:nvSpPr>
          <p:spPr>
            <a:xfrm>
              <a:off x="4480200" y="2438280"/>
              <a:ext cx="4607640" cy="57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Vazão indisponível com a concentração máxima 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classe de enquadramento ou do pacto de ba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38"/>
            <p:cNvSpPr/>
            <p:nvPr/>
          </p:nvSpPr>
          <p:spPr>
            <a:xfrm flipH="1">
              <a:off x="3130200" y="2743200"/>
              <a:ext cx="132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39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grpSp>
          <p:nvGrpSpPr>
            <p:cNvPr id="679" name="Group 40"/>
            <p:cNvGrpSpPr/>
            <p:nvPr/>
          </p:nvGrpSpPr>
          <p:grpSpPr>
            <a:xfrm>
              <a:off x="297000" y="2209680"/>
              <a:ext cx="4627440" cy="2051280"/>
              <a:chOff x="297000" y="2209680"/>
              <a:chExt cx="4627440" cy="2051280"/>
            </a:xfrm>
          </p:grpSpPr>
          <p:sp>
            <p:nvSpPr>
              <p:cNvPr id="680" name="Freeform 41"/>
              <p:cNvSpPr/>
              <p:nvPr/>
            </p:nvSpPr>
            <p:spPr>
              <a:xfrm>
                <a:off x="297000" y="2209680"/>
                <a:ext cx="4627440" cy="2051280"/>
              </a:xfrm>
              <a:custGeom>
                <a:avLst/>
                <a:gdLst>
                  <a:gd name="textAreaLeft" fmla="*/ 0 w 4627440"/>
                  <a:gd name="textAreaRight" fmla="*/ 4627800 w 4627440"/>
                  <a:gd name="textAreaTop" fmla="*/ 0 h 2051280"/>
                  <a:gd name="textAreaBottom" fmla="*/ 2051640 h 2051280"/>
                </a:gdLst>
                <a:ahLst/>
                <a:rect l="textAreaLeft" t="textAreaTop" r="textAreaRight" b="textAreaBottom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42"/>
              <p:cNvSpPr/>
              <p:nvPr/>
            </p:nvSpPr>
            <p:spPr>
              <a:xfrm>
                <a:off x="588600" y="2808360"/>
                <a:ext cx="33062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Text Box 43"/>
            <p:cNvSpPr/>
            <p:nvPr/>
          </p:nvSpPr>
          <p:spPr>
            <a:xfrm>
              <a:off x="2099880" y="2519280"/>
              <a:ext cx="12322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Vazão do 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Rectangle 44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3. Lançamento de eflu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3"/>
          <p:cNvSpPr/>
          <p:nvPr/>
        </p:nvSpPr>
        <p:spPr>
          <a:xfrm>
            <a:off x="2723760" y="115920"/>
            <a:ext cx="40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cia do rio Paraíba do S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4"/>
          <p:cNvSpPr/>
          <p:nvPr/>
        </p:nvSpPr>
        <p:spPr>
          <a:xfrm>
            <a:off x="6789600" y="6330960"/>
            <a:ext cx="18540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120 interve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2"/>
          <p:cNvSpPr/>
          <p:nvPr/>
        </p:nvSpPr>
        <p:spPr>
          <a:xfrm>
            <a:off x="247680" y="609480"/>
            <a:ext cx="87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XPERIÊ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179280" y="981000"/>
            <a:ext cx="87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000066"/>
                </a:solidFill>
                <a:uFillTx/>
                <a:latin typeface="Arial"/>
              </a:rPr>
              <a:t>Paraíba do Sul: rio Paraib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Picture 4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772400" cy="4838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247680" y="609480"/>
            <a:ext cx="87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XPERIÊ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179280" y="981000"/>
            <a:ext cx="87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000066"/>
                </a:solidFill>
                <a:uFillTx/>
                <a:latin typeface="Arial"/>
              </a:rPr>
              <a:t>Paraíba do Sul: rio Grande (R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Picture 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772400" cy="4838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4"/>
          <p:cNvGrpSpPr/>
          <p:nvPr/>
        </p:nvGrpSpPr>
        <p:grpSpPr>
          <a:xfrm>
            <a:off x="-17280" y="1125360"/>
            <a:ext cx="6341760" cy="3200400"/>
            <a:chOff x="-17280" y="1125360"/>
            <a:chExt cx="6341760" cy="3200400"/>
          </a:xfrm>
        </p:grpSpPr>
        <p:grpSp>
          <p:nvGrpSpPr>
            <p:cNvPr id="106" name="Group 5"/>
            <p:cNvGrpSpPr/>
            <p:nvPr/>
          </p:nvGrpSpPr>
          <p:grpSpPr>
            <a:xfrm>
              <a:off x="2438280" y="1125360"/>
              <a:ext cx="3886200" cy="3200400"/>
              <a:chOff x="2438280" y="1125360"/>
              <a:chExt cx="3886200" cy="3200400"/>
            </a:xfrm>
          </p:grpSpPr>
          <p:sp>
            <p:nvSpPr>
              <p:cNvPr id="107" name="Oval 6"/>
              <p:cNvSpPr/>
              <p:nvPr/>
            </p:nvSpPr>
            <p:spPr>
              <a:xfrm>
                <a:off x="2438280" y="1125360"/>
                <a:ext cx="3886200" cy="32004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7"/>
              <p:cNvSpPr/>
              <p:nvPr/>
            </p:nvSpPr>
            <p:spPr>
              <a:xfrm>
                <a:off x="3200400" y="1658880"/>
                <a:ext cx="1752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4000" spc="-1" strike="noStrike">
                    <a:solidFill>
                      <a:srgbClr val="000000"/>
                    </a:solidFill>
                    <a:latin typeface="Times New Roman"/>
                  </a:rPr>
                  <a:t>ÁGU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Text Box 8"/>
            <p:cNvSpPr/>
            <p:nvPr/>
          </p:nvSpPr>
          <p:spPr>
            <a:xfrm>
              <a:off x="-17280" y="1623960"/>
              <a:ext cx="21726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Fonte de vi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Bele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Cultura ,Poes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Religi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Outros </a:t>
              </a:r>
              <a:r>
                <a:rPr b="1" lang="pt-BR" sz="2400" spc="-1" strike="noStrike" u="sng">
                  <a:solidFill>
                    <a:srgbClr val="d60093"/>
                  </a:solidFill>
                  <a:uFillTx/>
                  <a:latin typeface="Times New Roman"/>
                </a:rPr>
                <a:t>V</a:t>
              </a:r>
              <a:r>
                <a:rPr b="1" lang="pt-BR" sz="2400" spc="-1" strike="noStrike" u="sng">
                  <a:solidFill>
                    <a:srgbClr val="0000cc"/>
                  </a:solidFill>
                  <a:uFillTx/>
                  <a:latin typeface="Times New Roman"/>
                </a:rPr>
                <a:t>a</a:t>
              </a:r>
              <a:r>
                <a:rPr b="1" lang="pt-BR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l</a:t>
              </a:r>
              <a:r>
                <a:rPr b="1" lang="pt-BR" sz="2400" spc="-1" strike="noStrike" u="sng">
                  <a:solidFill>
                    <a:srgbClr val="996633"/>
                  </a:solidFill>
                  <a:uFillTx/>
                  <a:latin typeface="Times New Roman"/>
                </a:rPr>
                <a:t>o</a:t>
              </a:r>
              <a:r>
                <a:rPr b="1" lang="pt-BR" sz="2400" spc="-1" strike="noStrike" u="sng">
                  <a:solidFill>
                    <a:srgbClr val="006600"/>
                  </a:solidFill>
                  <a:uFillTx/>
                  <a:latin typeface="Times New Roman"/>
                </a:rPr>
                <a:t>r</a:t>
              </a:r>
              <a:r>
                <a:rPr b="1" lang="pt-BR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</a:t>
              </a:r>
              <a:r>
                <a:rPr b="1" lang="pt-BR" sz="2400" spc="-1" strike="noStrike" u="sng">
                  <a:solidFill>
                    <a:srgbClr val="996600"/>
                  </a:solidFill>
                  <a:uFillTx/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9"/>
            <p:cNvSpPr/>
            <p:nvPr/>
          </p:nvSpPr>
          <p:spPr>
            <a:xfrm flipH="1" flipV="1">
              <a:off x="2133360" y="24210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Rectangle 10"/>
          <p:cNvSpPr/>
          <p:nvPr/>
        </p:nvSpPr>
        <p:spPr>
          <a:xfrm>
            <a:off x="304920" y="333360"/>
            <a:ext cx="853416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Água ou recurso hídrico? Há diferenç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12"/>
          <p:cNvGrpSpPr/>
          <p:nvPr/>
        </p:nvGrpSpPr>
        <p:grpSpPr>
          <a:xfrm>
            <a:off x="3886200" y="1776240"/>
            <a:ext cx="5225040" cy="2602080"/>
            <a:chOff x="3886200" y="1776240"/>
            <a:chExt cx="5225040" cy="2602080"/>
          </a:xfrm>
        </p:grpSpPr>
        <p:sp>
          <p:nvSpPr>
            <p:cNvPr id="113" name="Oval 13"/>
            <p:cNvSpPr/>
            <p:nvPr/>
          </p:nvSpPr>
          <p:spPr>
            <a:xfrm>
              <a:off x="3886200" y="2421000"/>
              <a:ext cx="1905120" cy="15494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Recurs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Hídri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($$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Picture 14" descr="BS00049_[1]"/>
            <p:cNvPicPr/>
            <p:nvPr/>
          </p:nvPicPr>
          <p:blipFill>
            <a:blip r:embed="rId2"/>
            <a:stretch/>
          </p:blipFill>
          <p:spPr>
            <a:xfrm>
              <a:off x="7010280" y="3030480"/>
              <a:ext cx="1476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Line 15"/>
            <p:cNvSpPr/>
            <p:nvPr/>
          </p:nvSpPr>
          <p:spPr>
            <a:xfrm flipV="1">
              <a:off x="5257800" y="3258720"/>
              <a:ext cx="16002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6303240" y="1776240"/>
              <a:ext cx="280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Insumo de produ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Utilidade econôm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6600"/>
                  </a:solidFill>
                  <a:latin typeface="Times New Roman"/>
                </a:rPr>
                <a:t>Valor econômico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 ($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Text Box 17"/>
          <p:cNvSpPr/>
          <p:nvPr/>
        </p:nvSpPr>
        <p:spPr>
          <a:xfrm>
            <a:off x="455040" y="4376880"/>
            <a:ext cx="8433360" cy="383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</a:rPr>
              <a:t>Recurso hídrico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</a:rPr>
              <a:t> é a água quando submetida aos interesses econômicos da sociedad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19"/>
          <p:cNvGrpSpPr/>
          <p:nvPr/>
        </p:nvGrpSpPr>
        <p:grpSpPr>
          <a:xfrm>
            <a:off x="3059280" y="4894200"/>
            <a:ext cx="5900400" cy="1599840"/>
            <a:chOff x="3059280" y="4894200"/>
            <a:chExt cx="5900400" cy="1599840"/>
          </a:xfrm>
        </p:grpSpPr>
        <p:sp>
          <p:nvSpPr>
            <p:cNvPr id="119" name="Text Box 11"/>
            <p:cNvSpPr/>
            <p:nvPr/>
          </p:nvSpPr>
          <p:spPr>
            <a:xfrm>
              <a:off x="3079080" y="5241960"/>
              <a:ext cx="5880600" cy="1252080"/>
            </a:xfrm>
            <a:prstGeom prst="rect">
              <a:avLst/>
            </a:prstGeom>
            <a:solidFill>
              <a:srgbClr val="ff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i="1" lang="pt-BR" sz="2800" spc="-1" strike="noStrike">
                  <a:solidFill>
                    <a:srgbClr val="000000"/>
                  </a:solidFill>
                  <a:latin typeface="Times New Roman"/>
                </a:rPr>
                <a:t>Não é apropriado ver como separad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Times New Roman"/>
                </a:rPr>
                <a:t>coisas que não se podem distinguir</a:t>
              </a: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lbert Einste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18"/>
            <p:cNvSpPr/>
            <p:nvPr/>
          </p:nvSpPr>
          <p:spPr>
            <a:xfrm>
              <a:off x="3059280" y="4894200"/>
              <a:ext cx="116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Reflexã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Text Box 20"/>
          <p:cNvSpPr/>
          <p:nvPr/>
        </p:nvSpPr>
        <p:spPr>
          <a:xfrm>
            <a:off x="95400" y="5245200"/>
            <a:ext cx="2771640" cy="1130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curso hídrico é uma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IRCUNSTÂNCI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179280" y="981000"/>
            <a:ext cx="8964720" cy="5472360"/>
            <a:chOff x="179280" y="981000"/>
            <a:chExt cx="8964720" cy="5472360"/>
          </a:xfrm>
        </p:grpSpPr>
        <p:grpSp>
          <p:nvGrpSpPr>
            <p:cNvPr id="694" name="Group 3"/>
            <p:cNvGrpSpPr/>
            <p:nvPr/>
          </p:nvGrpSpPr>
          <p:grpSpPr>
            <a:xfrm>
              <a:off x="237240" y="1011240"/>
              <a:ext cx="8906040" cy="5441760"/>
              <a:chOff x="237240" y="1011240"/>
              <a:chExt cx="8906040" cy="5441760"/>
            </a:xfrm>
          </p:grpSpPr>
          <p:sp>
            <p:nvSpPr>
              <p:cNvPr id="695" name="Line 4"/>
              <p:cNvSpPr/>
              <p:nvPr/>
            </p:nvSpPr>
            <p:spPr>
              <a:xfrm>
                <a:off x="1112760" y="5866560"/>
                <a:ext cx="717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5"/>
              <p:cNvSpPr/>
              <p:nvPr/>
            </p:nvSpPr>
            <p:spPr>
              <a:xfrm flipV="1">
                <a:off x="1112760" y="1371600"/>
                <a:ext cx="0" cy="449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Freeform 6"/>
              <p:cNvSpPr/>
              <p:nvPr/>
            </p:nvSpPr>
            <p:spPr>
              <a:xfrm>
                <a:off x="1112760" y="2098080"/>
                <a:ext cx="3760200" cy="3197520"/>
              </a:xfrm>
              <a:custGeom>
                <a:avLst/>
                <a:gdLst>
                  <a:gd name="textAreaLeft" fmla="*/ 0 w 3760200"/>
                  <a:gd name="textAreaRight" fmla="*/ 3760560 w 3760200"/>
                  <a:gd name="textAreaTop" fmla="*/ 0 h 3197520"/>
                  <a:gd name="textAreaBottom" fmla="*/ 3197880 h 3197520"/>
                </a:gdLst>
                <a:ahLst/>
                <a:rect l="textAreaLeft" t="textAreaTop" r="textAreaRight" b="textAreaBottom"/>
                <a:pathLst>
                  <a:path w="3624" h="2945">
                    <a:moveTo>
                      <a:pt x="0" y="2931"/>
                    </a:moveTo>
                    <a:cubicBezTo>
                      <a:pt x="150" y="2931"/>
                      <a:pt x="300" y="2931"/>
                      <a:pt x="540" y="2931"/>
                    </a:cubicBezTo>
                    <a:cubicBezTo>
                      <a:pt x="780" y="2931"/>
                      <a:pt x="1211" y="2945"/>
                      <a:pt x="1440" y="2931"/>
                    </a:cubicBezTo>
                    <a:cubicBezTo>
                      <a:pt x="1669" y="2917"/>
                      <a:pt x="1788" y="2914"/>
                      <a:pt x="1912" y="2846"/>
                    </a:cubicBezTo>
                    <a:cubicBezTo>
                      <a:pt x="2036" y="2778"/>
                      <a:pt x="2075" y="2792"/>
                      <a:pt x="2184" y="2520"/>
                    </a:cubicBezTo>
                    <a:cubicBezTo>
                      <a:pt x="2293" y="2248"/>
                      <a:pt x="2462" y="1603"/>
                      <a:pt x="2564" y="1216"/>
                    </a:cubicBezTo>
                    <a:cubicBezTo>
                      <a:pt x="2666" y="829"/>
                      <a:pt x="2729" y="394"/>
                      <a:pt x="2795" y="197"/>
                    </a:cubicBezTo>
                    <a:cubicBezTo>
                      <a:pt x="2861" y="0"/>
                      <a:pt x="2863" y="63"/>
                      <a:pt x="2958" y="34"/>
                    </a:cubicBezTo>
                    <a:cubicBezTo>
                      <a:pt x="3053" y="5"/>
                      <a:pt x="3255" y="23"/>
                      <a:pt x="3366" y="21"/>
                    </a:cubicBezTo>
                    <a:cubicBezTo>
                      <a:pt x="3477" y="19"/>
                      <a:pt x="3550" y="20"/>
                      <a:pt x="3624" y="21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7"/>
              <p:cNvSpPr/>
              <p:nvPr/>
            </p:nvSpPr>
            <p:spPr>
              <a:xfrm>
                <a:off x="4848120" y="2153160"/>
                <a:ext cx="0" cy="58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8"/>
              <p:cNvSpPr/>
              <p:nvPr/>
            </p:nvSpPr>
            <p:spPr>
              <a:xfrm>
                <a:off x="4848120" y="273960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9"/>
              <p:cNvSpPr/>
              <p:nvPr/>
            </p:nvSpPr>
            <p:spPr>
              <a:xfrm>
                <a:off x="5408280" y="2739600"/>
                <a:ext cx="0" cy="58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0"/>
              <p:cNvSpPr/>
              <p:nvPr/>
            </p:nvSpPr>
            <p:spPr>
              <a:xfrm>
                <a:off x="5408280" y="332568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1"/>
              <p:cNvSpPr/>
              <p:nvPr/>
            </p:nvSpPr>
            <p:spPr>
              <a:xfrm>
                <a:off x="5968440" y="3325680"/>
                <a:ext cx="0" cy="58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2"/>
              <p:cNvSpPr/>
              <p:nvPr/>
            </p:nvSpPr>
            <p:spPr>
              <a:xfrm>
                <a:off x="5968440" y="391248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3"/>
              <p:cNvSpPr/>
              <p:nvPr/>
            </p:nvSpPr>
            <p:spPr>
              <a:xfrm flipH="1">
                <a:off x="6523920" y="3912480"/>
                <a:ext cx="504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4"/>
              <p:cNvSpPr/>
              <p:nvPr/>
            </p:nvSpPr>
            <p:spPr>
              <a:xfrm flipH="1">
                <a:off x="1109880" y="4434480"/>
                <a:ext cx="6596640" cy="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5"/>
              <p:cNvSpPr/>
              <p:nvPr/>
            </p:nvSpPr>
            <p:spPr>
              <a:xfrm>
                <a:off x="4101120" y="2153160"/>
                <a:ext cx="0" cy="3713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Text Box 16"/>
              <p:cNvSpPr/>
              <p:nvPr/>
            </p:nvSpPr>
            <p:spPr>
              <a:xfrm>
                <a:off x="3713040" y="5851440"/>
                <a:ext cx="1307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Hoj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17"/>
              <p:cNvSpPr/>
              <p:nvPr/>
            </p:nvSpPr>
            <p:spPr>
              <a:xfrm>
                <a:off x="654120" y="5085000"/>
                <a:ext cx="6451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Text Box 18"/>
              <p:cNvSpPr/>
              <p:nvPr/>
            </p:nvSpPr>
            <p:spPr>
              <a:xfrm>
                <a:off x="610560" y="4242240"/>
                <a:ext cx="560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5,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Text Box 19"/>
              <p:cNvSpPr/>
              <p:nvPr/>
            </p:nvSpPr>
            <p:spPr>
              <a:xfrm>
                <a:off x="237240" y="1011240"/>
                <a:ext cx="3735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Concentração de DBO (mg/L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20"/>
              <p:cNvSpPr/>
              <p:nvPr/>
            </p:nvSpPr>
            <p:spPr>
              <a:xfrm>
                <a:off x="7836120" y="5899320"/>
                <a:ext cx="1307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Tem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Text Box 21"/>
              <p:cNvSpPr/>
              <p:nvPr/>
            </p:nvSpPr>
            <p:spPr>
              <a:xfrm>
                <a:off x="523440" y="194256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5,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Text Box 22"/>
              <p:cNvSpPr/>
              <p:nvPr/>
            </p:nvSpPr>
            <p:spPr>
              <a:xfrm>
                <a:off x="523440" y="371700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0,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Text Box 23"/>
              <p:cNvSpPr/>
              <p:nvPr/>
            </p:nvSpPr>
            <p:spPr>
              <a:xfrm>
                <a:off x="523440" y="313056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5,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Text Box 24"/>
              <p:cNvSpPr/>
              <p:nvPr/>
            </p:nvSpPr>
            <p:spPr>
              <a:xfrm>
                <a:off x="510840" y="254412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0,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Line 25"/>
              <p:cNvSpPr/>
              <p:nvPr/>
            </p:nvSpPr>
            <p:spPr>
              <a:xfrm flipH="1">
                <a:off x="1092960" y="2134800"/>
                <a:ext cx="30628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26"/>
              <p:cNvSpPr/>
              <p:nvPr/>
            </p:nvSpPr>
            <p:spPr>
              <a:xfrm flipH="1">
                <a:off x="1104120" y="2736360"/>
                <a:ext cx="3770280" cy="2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Line 27"/>
              <p:cNvSpPr/>
              <p:nvPr/>
            </p:nvSpPr>
            <p:spPr>
              <a:xfrm flipH="1">
                <a:off x="1138320" y="3322800"/>
                <a:ext cx="4334040" cy="7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Line 28"/>
              <p:cNvSpPr/>
              <p:nvPr/>
            </p:nvSpPr>
            <p:spPr>
              <a:xfrm flipH="1" flipV="1">
                <a:off x="1146600" y="3905640"/>
                <a:ext cx="4894200" cy="2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Text Box 29"/>
              <p:cNvSpPr/>
              <p:nvPr/>
            </p:nvSpPr>
            <p:spPr>
              <a:xfrm>
                <a:off x="984240" y="4048920"/>
                <a:ext cx="27619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Enquadramento na Classe I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Text Box 30"/>
              <p:cNvSpPr/>
              <p:nvPr/>
            </p:nvSpPr>
            <p:spPr>
              <a:xfrm>
                <a:off x="1054800" y="4908960"/>
                <a:ext cx="27619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3333cc"/>
                    </a:solidFill>
                    <a:latin typeface="Arial"/>
                  </a:rPr>
                  <a:t>Concentração natur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Line 31"/>
              <p:cNvSpPr/>
              <p:nvPr/>
            </p:nvSpPr>
            <p:spPr>
              <a:xfrm flipH="1">
                <a:off x="4463640" y="1567080"/>
                <a:ext cx="1130760" cy="46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Text Box 32"/>
              <p:cNvSpPr/>
              <p:nvPr/>
            </p:nvSpPr>
            <p:spPr>
              <a:xfrm>
                <a:off x="3914280" y="1223640"/>
                <a:ext cx="4295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Permissão acordada no Comitê (25,0 mg/L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Relaxamento do Enquadrament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Text Box 33"/>
              <p:cNvSpPr/>
              <p:nvPr/>
            </p:nvSpPr>
            <p:spPr>
              <a:xfrm>
                <a:off x="6342120" y="2138040"/>
                <a:ext cx="2054160" cy="11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Pacto de redução gradual da poluição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Permissões cada vez meno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AutoShape 34"/>
              <p:cNvSpPr/>
              <p:nvPr/>
            </p:nvSpPr>
            <p:spPr>
              <a:xfrm rot="19425000">
                <a:off x="6064920" y="1490040"/>
                <a:ext cx="294480" cy="2934720"/>
              </a:xfrm>
              <a:custGeom>
                <a:avLst/>
                <a:gdLst>
                  <a:gd name="textAreaLeft" fmla="*/ 0 w 294480"/>
                  <a:gd name="textAreaRight" fmla="*/ 106200 w 294480"/>
                  <a:gd name="textAreaTop" fmla="*/ 76320 h 2934720"/>
                  <a:gd name="textAreaBottom" fmla="*/ 2858400 h 293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Line 35"/>
              <p:cNvSpPr/>
              <p:nvPr/>
            </p:nvSpPr>
            <p:spPr>
              <a:xfrm>
                <a:off x="6528960" y="4431240"/>
                <a:ext cx="1276200" cy="11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Line 36"/>
              <p:cNvSpPr/>
              <p:nvPr/>
            </p:nvSpPr>
            <p:spPr>
              <a:xfrm>
                <a:off x="6528960" y="4498560"/>
                <a:ext cx="0" cy="136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Text Box 37"/>
              <p:cNvSpPr/>
              <p:nvPr/>
            </p:nvSpPr>
            <p:spPr>
              <a:xfrm>
                <a:off x="6041160" y="5866560"/>
                <a:ext cx="1220040" cy="39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+ N an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Rectangle 38"/>
            <p:cNvSpPr/>
            <p:nvPr/>
          </p:nvSpPr>
          <p:spPr>
            <a:xfrm>
              <a:off x="179280" y="981000"/>
              <a:ext cx="8964720" cy="547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Text Box 39"/>
          <p:cNvSpPr/>
          <p:nvPr/>
        </p:nvSpPr>
        <p:spPr>
          <a:xfrm>
            <a:off x="1436760" y="231840"/>
            <a:ext cx="6618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acto de Comitê para redução da pol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Exempl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40"/>
          <p:cNvSpPr/>
          <p:nvPr/>
        </p:nvSpPr>
        <p:spPr>
          <a:xfrm>
            <a:off x="261720" y="5862600"/>
            <a:ext cx="187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edro Álvares Cabral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41"/>
          <p:cNvSpPr/>
          <p:nvPr/>
        </p:nvSpPr>
        <p:spPr>
          <a:xfrm>
            <a:off x="-40680" y="6462720"/>
            <a:ext cx="9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volver: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Órgão Ambiental, Recursos Hídricos, Comitê, Agência, Conselhos de RH, </a:t>
            </a:r>
            <a:r>
              <a:rPr b="1" lang="pt-BR" sz="1400" spc="-1" strike="noStrike">
                <a:solidFill>
                  <a:srgbClr val="ff0000"/>
                </a:solidFill>
                <a:latin typeface="Arial"/>
              </a:rPr>
              <a:t>Ministério Público</a:t>
            </a: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Line 2"/>
          <p:cNvSpPr/>
          <p:nvPr/>
        </p:nvSpPr>
        <p:spPr>
          <a:xfrm>
            <a:off x="1547640" y="613872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3"/>
          <p:cNvSpPr/>
          <p:nvPr/>
        </p:nvSpPr>
        <p:spPr>
          <a:xfrm flipV="1">
            <a:off x="1547640" y="1746000"/>
            <a:ext cx="0" cy="43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1817640" y="63025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Ho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6712920" y="63025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+ N 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6"/>
          <p:cNvSpPr/>
          <p:nvPr/>
        </p:nvSpPr>
        <p:spPr>
          <a:xfrm>
            <a:off x="187200" y="1300320"/>
            <a:ext cx="40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onc. Permitida (Cperm) de DBO (m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7"/>
          <p:cNvSpPr/>
          <p:nvPr/>
        </p:nvSpPr>
        <p:spPr>
          <a:xfrm>
            <a:off x="5604120" y="1341360"/>
            <a:ext cx="2335680" cy="916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aso o usuário n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trate seus efluent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umenta sua Qind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Group 8"/>
          <p:cNvGrpSpPr/>
          <p:nvPr/>
        </p:nvGrpSpPr>
        <p:grpSpPr>
          <a:xfrm>
            <a:off x="1994040" y="1773000"/>
            <a:ext cx="6492600" cy="4392360"/>
            <a:chOff x="1994040" y="1773000"/>
            <a:chExt cx="6492600" cy="4392360"/>
          </a:xfrm>
        </p:grpSpPr>
        <p:grpSp>
          <p:nvGrpSpPr>
            <p:cNvPr id="740" name="Group 9"/>
            <p:cNvGrpSpPr/>
            <p:nvPr/>
          </p:nvGrpSpPr>
          <p:grpSpPr>
            <a:xfrm>
              <a:off x="1994040" y="3040200"/>
              <a:ext cx="5471640" cy="2879640"/>
              <a:chOff x="1994040" y="3040200"/>
              <a:chExt cx="5471640" cy="2879640"/>
            </a:xfrm>
          </p:grpSpPr>
          <p:sp>
            <p:nvSpPr>
              <p:cNvPr id="741" name="Line 10"/>
              <p:cNvSpPr/>
              <p:nvPr/>
            </p:nvSpPr>
            <p:spPr>
              <a:xfrm flipV="1">
                <a:off x="3002040" y="5198760"/>
                <a:ext cx="0" cy="72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2" name="Group 11"/>
              <p:cNvGrpSpPr/>
              <p:nvPr/>
            </p:nvGrpSpPr>
            <p:grpSpPr>
              <a:xfrm>
                <a:off x="1994040" y="3040200"/>
                <a:ext cx="5471640" cy="2879640"/>
                <a:chOff x="1994040" y="3040200"/>
                <a:chExt cx="5471640" cy="2879640"/>
              </a:xfrm>
            </p:grpSpPr>
            <p:sp>
              <p:nvSpPr>
                <p:cNvPr id="743" name="Line 12"/>
                <p:cNvSpPr/>
                <p:nvPr/>
              </p:nvSpPr>
              <p:spPr>
                <a:xfrm>
                  <a:off x="1994040" y="5919840"/>
                  <a:ext cx="10076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Line 13"/>
                <p:cNvSpPr/>
                <p:nvPr/>
              </p:nvSpPr>
              <p:spPr>
                <a:xfrm>
                  <a:off x="2987640" y="5200560"/>
                  <a:ext cx="10076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Line 14"/>
                <p:cNvSpPr/>
                <p:nvPr/>
              </p:nvSpPr>
              <p:spPr>
                <a:xfrm flipV="1">
                  <a:off x="3995640" y="4479840"/>
                  <a:ext cx="0" cy="720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Line 15"/>
                <p:cNvSpPr/>
                <p:nvPr/>
              </p:nvSpPr>
              <p:spPr>
                <a:xfrm>
                  <a:off x="3995640" y="4495680"/>
                  <a:ext cx="10076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Line 16"/>
                <p:cNvSpPr/>
                <p:nvPr/>
              </p:nvSpPr>
              <p:spPr>
                <a:xfrm flipV="1">
                  <a:off x="5003640" y="3774960"/>
                  <a:ext cx="0" cy="720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Line 17"/>
                <p:cNvSpPr/>
                <p:nvPr/>
              </p:nvSpPr>
              <p:spPr>
                <a:xfrm>
                  <a:off x="4989240" y="3760920"/>
                  <a:ext cx="10080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Line 18"/>
                <p:cNvSpPr/>
                <p:nvPr/>
              </p:nvSpPr>
              <p:spPr>
                <a:xfrm flipV="1">
                  <a:off x="5997600" y="3040200"/>
                  <a:ext cx="0" cy="720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Line 19"/>
                <p:cNvSpPr/>
                <p:nvPr/>
              </p:nvSpPr>
              <p:spPr>
                <a:xfrm>
                  <a:off x="6026040" y="3040200"/>
                  <a:ext cx="14396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1" name="Line 20"/>
            <p:cNvSpPr/>
            <p:nvPr/>
          </p:nvSpPr>
          <p:spPr>
            <a:xfrm flipV="1">
              <a:off x="8172360" y="1773000"/>
              <a:ext cx="0" cy="43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1"/>
            <p:cNvSpPr/>
            <p:nvPr/>
          </p:nvSpPr>
          <p:spPr>
            <a:xfrm rot="16200000">
              <a:off x="6706440" y="391968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Cobrança pela diluição (R$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2"/>
            <p:cNvSpPr/>
            <p:nvPr/>
          </p:nvSpPr>
          <p:spPr>
            <a:xfrm flipH="1">
              <a:off x="6416640" y="2347920"/>
              <a:ext cx="50328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Group 23"/>
          <p:cNvGrpSpPr/>
          <p:nvPr/>
        </p:nvGrpSpPr>
        <p:grpSpPr>
          <a:xfrm>
            <a:off x="1153800" y="2449440"/>
            <a:ext cx="5851800" cy="3241080"/>
            <a:chOff x="1153800" y="2449440"/>
            <a:chExt cx="5851800" cy="3241080"/>
          </a:xfrm>
        </p:grpSpPr>
        <p:grpSp>
          <p:nvGrpSpPr>
            <p:cNvPr id="755" name="Group 24"/>
            <p:cNvGrpSpPr/>
            <p:nvPr/>
          </p:nvGrpSpPr>
          <p:grpSpPr>
            <a:xfrm>
              <a:off x="1533960" y="2608200"/>
              <a:ext cx="5471640" cy="2879640"/>
              <a:chOff x="1533960" y="2608200"/>
              <a:chExt cx="5471640" cy="2879640"/>
            </a:xfrm>
          </p:grpSpPr>
          <p:sp>
            <p:nvSpPr>
              <p:cNvPr id="756" name="Line 25"/>
              <p:cNvSpPr/>
              <p:nvPr/>
            </p:nvSpPr>
            <p:spPr>
              <a:xfrm flipV="1">
                <a:off x="5997600" y="4766760"/>
                <a:ext cx="0" cy="72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7" name="Group 26"/>
              <p:cNvGrpSpPr/>
              <p:nvPr/>
            </p:nvGrpSpPr>
            <p:grpSpPr>
              <a:xfrm>
                <a:off x="1533960" y="2608200"/>
                <a:ext cx="5471640" cy="2879640"/>
                <a:chOff x="1533960" y="2608200"/>
                <a:chExt cx="5471640" cy="2879640"/>
              </a:xfrm>
            </p:grpSpPr>
            <p:sp>
              <p:nvSpPr>
                <p:cNvPr id="758" name="Line 27"/>
                <p:cNvSpPr/>
                <p:nvPr/>
              </p:nvSpPr>
              <p:spPr>
                <a:xfrm flipH="1">
                  <a:off x="5997960" y="5487840"/>
                  <a:ext cx="100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Line 28"/>
                <p:cNvSpPr/>
                <p:nvPr/>
              </p:nvSpPr>
              <p:spPr>
                <a:xfrm flipH="1">
                  <a:off x="5004360" y="4768560"/>
                  <a:ext cx="100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Line 29"/>
                <p:cNvSpPr/>
                <p:nvPr/>
              </p:nvSpPr>
              <p:spPr>
                <a:xfrm flipV="1">
                  <a:off x="5004000" y="4047840"/>
                  <a:ext cx="0" cy="72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Line 30"/>
                <p:cNvSpPr/>
                <p:nvPr/>
              </p:nvSpPr>
              <p:spPr>
                <a:xfrm flipH="1">
                  <a:off x="3996360" y="4063680"/>
                  <a:ext cx="100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Line 31"/>
                <p:cNvSpPr/>
                <p:nvPr/>
              </p:nvSpPr>
              <p:spPr>
                <a:xfrm flipV="1">
                  <a:off x="3996000" y="3342960"/>
                  <a:ext cx="0" cy="72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Line 32"/>
                <p:cNvSpPr/>
                <p:nvPr/>
              </p:nvSpPr>
              <p:spPr>
                <a:xfrm flipH="1">
                  <a:off x="3002400" y="3328920"/>
                  <a:ext cx="1008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Line 33"/>
                <p:cNvSpPr/>
                <p:nvPr/>
              </p:nvSpPr>
              <p:spPr>
                <a:xfrm flipV="1">
                  <a:off x="3002040" y="2608200"/>
                  <a:ext cx="0" cy="72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Line 34"/>
                <p:cNvSpPr/>
                <p:nvPr/>
              </p:nvSpPr>
              <p:spPr>
                <a:xfrm flipH="1">
                  <a:off x="1533960" y="2608200"/>
                  <a:ext cx="143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6" name="Text Box 35"/>
            <p:cNvSpPr/>
            <p:nvPr/>
          </p:nvSpPr>
          <p:spPr>
            <a:xfrm>
              <a:off x="1153800" y="24494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Text Box 36"/>
            <p:cNvSpPr/>
            <p:nvPr/>
          </p:nvSpPr>
          <p:spPr>
            <a:xfrm>
              <a:off x="1224000" y="5353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37"/>
            <p:cNvSpPr/>
            <p:nvPr/>
          </p:nvSpPr>
          <p:spPr>
            <a:xfrm>
              <a:off x="1547640" y="5487840"/>
              <a:ext cx="540072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Group 38"/>
          <p:cNvGrpSpPr/>
          <p:nvPr/>
        </p:nvGrpSpPr>
        <p:grpSpPr>
          <a:xfrm>
            <a:off x="139680" y="2852640"/>
            <a:ext cx="3343680" cy="1592280"/>
            <a:chOff x="139680" y="2852640"/>
            <a:chExt cx="3343680" cy="1592280"/>
          </a:xfrm>
        </p:grpSpPr>
        <p:grpSp>
          <p:nvGrpSpPr>
            <p:cNvPr id="770" name="Group 39"/>
            <p:cNvGrpSpPr/>
            <p:nvPr/>
          </p:nvGrpSpPr>
          <p:grpSpPr>
            <a:xfrm>
              <a:off x="139680" y="2852640"/>
              <a:ext cx="2631960" cy="1060200"/>
              <a:chOff x="139680" y="2852640"/>
              <a:chExt cx="2631960" cy="1060200"/>
            </a:xfrm>
          </p:grpSpPr>
          <mc:AlternateContent>
            <mc:Choice xmlns:a14="http://schemas.microsoft.com/office/drawing/2010/main" Requires="a14">
              <p:sp>
                <p:nvSpPr>
                  <p:cNvPr id="771" name="Object 40"/>
                  <p:cNvSpPr txBox="1"/>
                  <p:nvPr/>
                </p:nvSpPr>
                <p:spPr>
                  <a:xfrm>
                    <a:off x="139680" y="2852640"/>
                    <a:ext cx="263196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Qdi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e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ef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perm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perm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nat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72" name="Object 41"/>
                  <p:cNvSpPr txBox="1"/>
                  <p:nvPr/>
                </p:nvSpPr>
                <p:spPr>
                  <a:xfrm>
                    <a:off x="139680" y="3573360"/>
                    <a:ext cx="2379240" cy="33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Qindis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dil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ef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73" name="Text Box 42"/>
            <p:cNvSpPr/>
            <p:nvPr/>
          </p:nvSpPr>
          <p:spPr>
            <a:xfrm>
              <a:off x="145080" y="4076640"/>
              <a:ext cx="3338280" cy="3682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nor Cperm → maior Qind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Text Box 43"/>
          <p:cNvSpPr/>
          <p:nvPr/>
        </p:nvSpPr>
        <p:spPr>
          <a:xfrm rot="20388600">
            <a:off x="292320" y="2881440"/>
            <a:ext cx="8574840" cy="94716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Chegará um ponto em que será mais barato tratar 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efluentes do que continuar pagando pela dilui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44"/>
          <p:cNvSpPr/>
          <p:nvPr/>
        </p:nvSpPr>
        <p:spPr>
          <a:xfrm>
            <a:off x="1436760" y="231840"/>
            <a:ext cx="6618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acto de Comitê para redução da pol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Exempl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2"/>
          <p:cNvSpPr/>
          <p:nvPr/>
        </p:nvSpPr>
        <p:spPr>
          <a:xfrm>
            <a:off x="130320" y="115920"/>
            <a:ext cx="8889840" cy="1557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 Rio Grande do Sul 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creto n.º 37.033/96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termina que: “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rt. 5º. Ressalvada a competência da União, a FEPAM definirá as quantidades mínimas de água necessárias para a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manutenção da vida nos ecossistemas aquáticos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, para cada bacia hidrográfic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3"/>
          <p:cNvSpPr/>
          <p:nvPr/>
        </p:nvSpPr>
        <p:spPr>
          <a:xfrm>
            <a:off x="136440" y="4414680"/>
            <a:ext cx="8885160" cy="2288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ato Gro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 Resolução n.º 3/2003, do Conselho Estadual de Recursos Hídricos, em seu art. 1º, incisos X e XI, estabelece respectivamente, “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para efeito desta resolução adotam-se as seguintes definições: (X) </a:t>
            </a: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vazão remanescente ou ecológica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: vazão mínima que deve ser mantida a jusante da barragem, estabelecida no ato da outorga; (XI) vazão de restrição: vazão que estabelece limites para que haja o atendimento satisfatório aos múltiplos usos dos recursos hídricos ou que orienta a operação do reservatório quanto a ocorrências diversas tais como inundações ou cheias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Group 4"/>
          <p:cNvGrpSpPr/>
          <p:nvPr/>
        </p:nvGrpSpPr>
        <p:grpSpPr>
          <a:xfrm>
            <a:off x="179280" y="1830240"/>
            <a:ext cx="8829000" cy="2455560"/>
            <a:chOff x="179280" y="1830240"/>
            <a:chExt cx="8829000" cy="2455560"/>
          </a:xfrm>
        </p:grpSpPr>
        <p:grpSp>
          <p:nvGrpSpPr>
            <p:cNvPr id="779" name="Group 5"/>
            <p:cNvGrpSpPr/>
            <p:nvPr/>
          </p:nvGrpSpPr>
          <p:grpSpPr>
            <a:xfrm>
              <a:off x="179280" y="1830240"/>
              <a:ext cx="8829000" cy="2455560"/>
              <a:chOff x="179280" y="1830240"/>
              <a:chExt cx="8829000" cy="2455560"/>
            </a:xfrm>
          </p:grpSpPr>
          <p:pic>
            <p:nvPicPr>
              <p:cNvPr id="780" name="Picture 6" descr=""/>
              <p:cNvPicPr/>
              <p:nvPr/>
            </p:nvPicPr>
            <p:blipFill>
              <a:blip r:embed="rId1"/>
              <a:srcRect l="7765" t="39543" r="3384" b="13484"/>
              <a:stretch/>
            </p:blipFill>
            <p:spPr>
              <a:xfrm>
                <a:off x="179280" y="1830240"/>
                <a:ext cx="8829000" cy="24555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781" name="Text Box 7"/>
              <p:cNvSpPr/>
              <p:nvPr/>
            </p:nvSpPr>
            <p:spPr>
              <a:xfrm>
                <a:off x="4392720" y="3918960"/>
                <a:ext cx="4437360" cy="276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Fonte: Relatório FEMA-MT, 2004. Walter Collischonn e Sidnei Agr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2" name="Line 8"/>
            <p:cNvSpPr/>
            <p:nvPr/>
          </p:nvSpPr>
          <p:spPr>
            <a:xfrm>
              <a:off x="1338840" y="2068200"/>
              <a:ext cx="132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3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 Box 2"/>
          <p:cNvSpPr/>
          <p:nvPr/>
        </p:nvSpPr>
        <p:spPr>
          <a:xfrm>
            <a:off x="130320" y="90360"/>
            <a:ext cx="8940600" cy="2228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io de Jan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Portaria SERLA n.º 307, de 23 de dezembro de 2002, estabelec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</a:rPr>
              <a:t>critérios para outorg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. O art. 15, inciso VI diz que “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o cadastro dos usuários de recursos hídricos de domínio do Estado do Rio de Janeiro deverá ser consolidado por bacia hidrográfica, contendo: a vazão mínima do corpo d’água necessária à 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prevenção da degradação ambiental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, à 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manutenção dos ecossistemas aquáticos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, à garantia de condições adequadas a outros usos e ao transporte aquaviário, quando couber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3"/>
          <p:cNvSpPr/>
          <p:nvPr/>
        </p:nvSpPr>
        <p:spPr>
          <a:xfrm>
            <a:off x="131760" y="2457360"/>
            <a:ext cx="8898120" cy="1965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spírito S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creto n.º 1.318-R/2004, regulamenta a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strução de barragen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. Em seu art. 10, inciso VI, determina que “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a vazão residual da barragem deverá ser, no mínimo, igual ao menor valor comparativo entre o Q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Times New Roman"/>
              </a:rPr>
              <a:t>7,10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e a vazão mínima em período de seca, calculada para aquela seção do curso de água, garantindo uso múltiplo à jusante e a 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manutenção do ecossistema aquátic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4"/>
          <p:cNvSpPr/>
          <p:nvPr/>
        </p:nvSpPr>
        <p:spPr>
          <a:xfrm>
            <a:off x="139680" y="4573440"/>
            <a:ext cx="8867880" cy="2228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ear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creto n.º 23.067/1994, que regulamenta o art. 4º da Lei n.º 11.996/1992, do Estado do Ceará, dispõe no art. 19 que: “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a disponibilidade hídrica será função  das características hidrogeológicas do local ou da bacia sobre que incide a outorga, observando ainda o seguinte: I - 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Quando se trata de água superficial; a)  a vazão mínima natural será nula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; b)  o valor de referência será a descarga regularizada anual com garantia de 90%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2" descr=""/>
          <p:cNvPicPr/>
          <p:nvPr/>
        </p:nvPicPr>
        <p:blipFill>
          <a:blip r:embed="rId1"/>
          <a:srcRect l="15527" t="23961" r="11669" b="157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7" name="Line 3"/>
          <p:cNvSpPr/>
          <p:nvPr/>
        </p:nvSpPr>
        <p:spPr>
          <a:xfrm>
            <a:off x="1332000" y="4941720"/>
            <a:ext cx="7200720" cy="0"/>
          </a:xfrm>
          <a:prstGeom prst="line">
            <a:avLst/>
          </a:prstGeom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4"/>
          <p:cNvSpPr/>
          <p:nvPr/>
        </p:nvSpPr>
        <p:spPr>
          <a:xfrm>
            <a:off x="1332000" y="5373720"/>
            <a:ext cx="7200720" cy="0"/>
          </a:xfrm>
          <a:prstGeom prst="line">
            <a:avLst/>
          </a:prstGeom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5"/>
          <p:cNvSpPr/>
          <p:nvPr/>
        </p:nvSpPr>
        <p:spPr>
          <a:xfrm>
            <a:off x="1332000" y="5573880"/>
            <a:ext cx="72007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6"/>
          <p:cNvSpPr/>
          <p:nvPr/>
        </p:nvSpPr>
        <p:spPr>
          <a:xfrm>
            <a:off x="1332000" y="2565360"/>
            <a:ext cx="720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7"/>
          <p:cNvSpPr/>
          <p:nvPr/>
        </p:nvSpPr>
        <p:spPr>
          <a:xfrm>
            <a:off x="1332000" y="3602160"/>
            <a:ext cx="720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Group 8"/>
          <p:cNvGrpSpPr/>
          <p:nvPr/>
        </p:nvGrpSpPr>
        <p:grpSpPr>
          <a:xfrm>
            <a:off x="252000" y="5229360"/>
            <a:ext cx="1094040" cy="520200"/>
            <a:chOff x="252000" y="5229360"/>
            <a:chExt cx="1094040" cy="520200"/>
          </a:xfrm>
        </p:grpSpPr>
        <p:sp>
          <p:nvSpPr>
            <p:cNvPr id="793" name="AutoShape 9"/>
            <p:cNvSpPr/>
            <p:nvPr/>
          </p:nvSpPr>
          <p:spPr>
            <a:xfrm>
              <a:off x="1116000" y="5330880"/>
              <a:ext cx="230040" cy="258840"/>
            </a:xfrm>
            <a:custGeom>
              <a:avLst/>
              <a:gdLst>
                <a:gd name="textAreaLeft" fmla="*/ 146880 w 230040"/>
                <a:gd name="textAreaRight" fmla="*/ 230400 w 230040"/>
                <a:gd name="textAreaTop" fmla="*/ 6480 h 258840"/>
                <a:gd name="textAreaBottom" fmla="*/ 25236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10"/>
            <p:cNvSpPr/>
            <p:nvPr/>
          </p:nvSpPr>
          <p:spPr>
            <a:xfrm>
              <a:off x="252000" y="5229360"/>
              <a:ext cx="91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azões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eferênc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Text Box 11"/>
          <p:cNvSpPr/>
          <p:nvPr/>
        </p:nvSpPr>
        <p:spPr>
          <a:xfrm>
            <a:off x="2122560" y="5076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Hidrograma em uma dada seção de 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2" descr=""/>
          <p:cNvPicPr/>
          <p:nvPr/>
        </p:nvPicPr>
        <p:blipFill>
          <a:blip r:embed="rId1"/>
          <a:srcRect l="24172" t="37986" r="20281" b="12693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797" name="Line 3"/>
          <p:cNvSpPr/>
          <p:nvPr/>
        </p:nvSpPr>
        <p:spPr>
          <a:xfrm flipV="1">
            <a:off x="7927920" y="4005360"/>
            <a:ext cx="0" cy="1728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Group 4"/>
          <p:cNvGrpSpPr/>
          <p:nvPr/>
        </p:nvGrpSpPr>
        <p:grpSpPr>
          <a:xfrm>
            <a:off x="179280" y="3781440"/>
            <a:ext cx="7763040" cy="1004400"/>
            <a:chOff x="179280" y="3781440"/>
            <a:chExt cx="7763040" cy="1004400"/>
          </a:xfrm>
        </p:grpSpPr>
        <p:sp>
          <p:nvSpPr>
            <p:cNvPr id="799" name="Line 5"/>
            <p:cNvSpPr/>
            <p:nvPr/>
          </p:nvSpPr>
          <p:spPr>
            <a:xfrm flipH="1">
              <a:off x="755280" y="407664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0" name="Group 6"/>
            <p:cNvGrpSpPr/>
            <p:nvPr/>
          </p:nvGrpSpPr>
          <p:grpSpPr>
            <a:xfrm>
              <a:off x="179280" y="3781440"/>
              <a:ext cx="7763040" cy="1004400"/>
              <a:chOff x="179280" y="3781440"/>
              <a:chExt cx="7763040" cy="1004400"/>
            </a:xfrm>
          </p:grpSpPr>
          <p:grpSp>
            <p:nvGrpSpPr>
              <p:cNvPr id="801" name="Group 7"/>
              <p:cNvGrpSpPr/>
              <p:nvPr/>
            </p:nvGrpSpPr>
            <p:grpSpPr>
              <a:xfrm>
                <a:off x="736560" y="3781440"/>
                <a:ext cx="7205760" cy="368280"/>
                <a:chOff x="736560" y="3781440"/>
                <a:chExt cx="7205760" cy="368280"/>
              </a:xfrm>
            </p:grpSpPr>
            <p:sp>
              <p:nvSpPr>
                <p:cNvPr id="802" name="Line 8"/>
                <p:cNvSpPr/>
                <p:nvPr/>
              </p:nvSpPr>
              <p:spPr>
                <a:xfrm flipH="1">
                  <a:off x="1101600" y="3976560"/>
                  <a:ext cx="684072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Text Box 9"/>
                <p:cNvSpPr/>
                <p:nvPr/>
              </p:nvSpPr>
              <p:spPr>
                <a:xfrm>
                  <a:off x="736560" y="3781440"/>
                  <a:ext cx="409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3333cc"/>
                      </a:solidFill>
                      <a:latin typeface="Times New Roman"/>
                      <a:ea typeface="Arial"/>
                    </a:rPr>
                    <a:t>6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4" name="Text Box 10"/>
              <p:cNvSpPr/>
              <p:nvPr/>
            </p:nvSpPr>
            <p:spPr>
              <a:xfrm>
                <a:off x="179280" y="4265640"/>
                <a:ext cx="895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azão 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referênc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5" name="Text Box 11"/>
          <p:cNvSpPr/>
          <p:nvPr/>
        </p:nvSpPr>
        <p:spPr>
          <a:xfrm>
            <a:off x="2054160" y="201600"/>
            <a:ext cx="51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urva de permanência de vaz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ugestão de conce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Vazão ecológica: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vazão que deve ser mantida no rio para atender a requisitos do me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Vazão mínima ou remanescent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 Vazão que inclui a vazão ecológica, bem como os usos de recursos hídricos que devem ser preservados a jusante da intervenção no corpo d’água, como a manutenção de calado para navegação, vazões mínimas de diluição para atender à classe em que o corpo d’água estiver enquadrado, os usos múltiplos e outros. Ou seja, a Vazão Mínima ou Remanescente inclui a Vazão ecológ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4"/>
          <p:cNvSpPr/>
          <p:nvPr/>
        </p:nvSpPr>
        <p:spPr>
          <a:xfrm>
            <a:off x="4683960" y="6446880"/>
            <a:ext cx="441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onte: Nota Técnica n. 158/2005 (SOC/A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9280" y="1627200"/>
            <a:ext cx="8584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cc"/>
                </a:solidFill>
                <a:latin typeface="Times New Roman"/>
              </a:rPr>
              <a:t>Integraçã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cc"/>
                </a:solidFill>
                <a:latin typeface="Times New Roman"/>
              </a:rPr>
              <a:t>Gestão de Recursos Hídric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cc"/>
                </a:solidFill>
                <a:latin typeface="Times New Roman"/>
              </a:rPr>
              <a:t>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cc"/>
                </a:solidFill>
                <a:latin typeface="Times New Roman"/>
              </a:rPr>
              <a:t>Gestão Ambient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0" y="981000"/>
            <a:ext cx="90075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Alguns caminhos para Integração da gestão recursos hídricos e ambi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Escalas de trabalh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rticulação entre outorga e licenciamento ambi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Lançam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Consensos sobre vazões ambient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iano Meneses Cardoso da Silva</dc:creator>
  <dc:description/>
  <dc:language>en-US</dc:language>
  <cp:lastModifiedBy>Usuário do Windows</cp:lastModifiedBy>
  <dcterms:modified xsi:type="dcterms:W3CDTF">2012-04-18T15:33:42Z</dcterms:modified>
  <cp:revision>868</cp:revision>
  <dc:subject/>
  <dc:title>PowerPoint Presentation</dc:title>
</cp:coreProperties>
</file>